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724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13120" y="0"/>
            <a:ext cx="29145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14040" y="766800"/>
            <a:ext cx="490068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896760" y="4749480"/>
            <a:ext cx="4934160" cy="444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0" y="9423000"/>
            <a:ext cx="2914560" cy="53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13120" y="9423000"/>
            <a:ext cx="2914560" cy="5367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21A0E6-2DE1-4731-AC63-A5F9325D2DF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4400" y="76680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896760" y="4749480"/>
            <a:ext cx="4934160" cy="444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fonhörer: zur Arbeitszufriedenheit ergänzen, dass die Motivation erhöht wird und die Arbeitsfähigkeit gefördert und erhalten w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fonhörer: zusätzlich anmerken: dadurch wird die Servicequalität verbes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fonhörer: zusätzlich anmerken: Bestand des Unternehmens wird nachhaltig gesich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7800" y="333360"/>
            <a:ext cx="8498160" cy="1233360"/>
          </a:xfrm>
          <a:prstGeom prst="rect">
            <a:avLst/>
          </a:prstGeom>
          <a:solidFill>
            <a:srgbClr val="183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18960" y="6119640"/>
            <a:ext cx="7015320" cy="571680"/>
            <a:chOff x="318960" y="6119640"/>
            <a:chExt cx="7015320" cy="571680"/>
          </a:xfrm>
        </p:grpSpPr>
        <p:pic>
          <p:nvPicPr>
            <p:cNvPr id="2" name="zeichen%20(r_s)" descr=""/>
            <p:cNvPicPr/>
            <p:nvPr/>
          </p:nvPicPr>
          <p:blipFill>
            <a:blip r:embed="rId2"/>
            <a:stretch/>
          </p:blipFill>
          <p:spPr>
            <a:xfrm>
              <a:off x="318960" y="6211800"/>
              <a:ext cx="134964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Ver_1rot" descr=""/>
            <p:cNvPicPr/>
            <p:nvPr/>
          </p:nvPicPr>
          <p:blipFill>
            <a:blip r:embed="rId3"/>
            <a:stretch/>
          </p:blipFill>
          <p:spPr>
            <a:xfrm>
              <a:off x="6781680" y="6119640"/>
              <a:ext cx="552600" cy="54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"/>
            <p:cNvGrpSpPr/>
            <p:nvPr/>
          </p:nvGrpSpPr>
          <p:grpSpPr>
            <a:xfrm>
              <a:off x="3276720" y="6454800"/>
              <a:ext cx="1912320" cy="199440"/>
              <a:chOff x="3276720" y="6454800"/>
              <a:chExt cx="1912320" cy="199440"/>
            </a:xfrm>
          </p:grpSpPr>
          <p:sp>
            <p:nvSpPr>
              <p:cNvPr id="5" name=""/>
              <p:cNvSpPr/>
              <p:nvPr/>
            </p:nvSpPr>
            <p:spPr>
              <a:xfrm>
                <a:off x="3819960" y="6456960"/>
                <a:ext cx="1369080" cy="1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29880" bIns="298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9040"/>
                    <a:tab algn="l" pos="1378080"/>
                    <a:tab algn="l" pos="2066760"/>
                    <a:tab algn="l" pos="2755800"/>
                    <a:tab algn="l" pos="3444840"/>
                    <a:tab algn="l" pos="4133880"/>
                    <a:tab algn="l" pos="4822920"/>
                    <a:tab algn="l" pos="5511960"/>
                    <a:tab algn="l" pos="6200640"/>
                    <a:tab algn="l" pos="6889680"/>
                    <a:tab algn="l" pos="7578720"/>
                    <a:tab algn="l" pos="8267760"/>
                    <a:tab algn="l" pos="8956800"/>
                    <a:tab algn="l" pos="9645480"/>
                    <a:tab algn="l" pos="1033452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www.soca-online.d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" name="soca-Logo_Power" descr=""/>
              <p:cNvPicPr/>
              <p:nvPr/>
            </p:nvPicPr>
            <p:blipFill>
              <a:blip r:embed="rId4"/>
              <a:stretch/>
            </p:blipFill>
            <p:spPr>
              <a:xfrm>
                <a:off x="3468240" y="6485760"/>
                <a:ext cx="354600" cy="13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>
                <a:off x="3276720" y="6454800"/>
                <a:ext cx="169560" cy="1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29880" bIns="298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9040"/>
                    <a:tab algn="l" pos="1378080"/>
                    <a:tab algn="l" pos="2066760"/>
                    <a:tab algn="l" pos="2755800"/>
                    <a:tab algn="l" pos="3444840"/>
                    <a:tab algn="l" pos="4133880"/>
                    <a:tab algn="l" pos="4822920"/>
                    <a:tab algn="l" pos="5511960"/>
                    <a:tab algn="l" pos="6200640"/>
                    <a:tab algn="l" pos="6889680"/>
                    <a:tab algn="l" pos="7578720"/>
                    <a:tab algn="l" pos="8267760"/>
                    <a:tab algn="l" pos="8956800"/>
                    <a:tab algn="l" pos="9645480"/>
                    <a:tab algn="l" pos="1033452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©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" name="soca-Logo_mit_weiß" descr=""/>
          <p:cNvPicPr/>
          <p:nvPr/>
        </p:nvPicPr>
        <p:blipFill>
          <a:blip r:embed="rId5"/>
          <a:stretch/>
        </p:blipFill>
        <p:spPr>
          <a:xfrm>
            <a:off x="380880" y="380880"/>
            <a:ext cx="1828800" cy="11145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7401600" y="6477120"/>
            <a:ext cx="1450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c50023"/>
                </a:solidFill>
                <a:latin typeface="Arial"/>
              </a:rPr>
              <a:t>so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Ca-Präsentation_</a:t>
            </a:r>
            <a:fld id="{8805B61C-1E43-48AB-916F-24F93289AB3C}" type="slidenum">
              <a:rPr b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" y="5126040"/>
              <a:ext cx="822960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soca_nur" descr=""/>
            <p:cNvPicPr/>
            <p:nvPr/>
          </p:nvPicPr>
          <p:blipFill>
            <a:blip r:embed="rId1"/>
            <a:stretch/>
          </p:blipFill>
          <p:spPr>
            <a:xfrm>
              <a:off x="1905120" y="1495440"/>
              <a:ext cx="517500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271240" y="4022640"/>
              <a:ext cx="5513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C-Fachtagu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Zukunftstrends in Service- und Call-Cente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29.9.04 in Kas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207880" y="2209680"/>
            <a:ext cx="588456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80880" indent="-3808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 Standardauswertung erfolgt auf 3 Eben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Indikatoreneben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Ebene der Qualitätsmerkma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Ebene der Leitsätz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gänzend wird ein überbetrieblicher Vergle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 der Ebene der Qualitätsmerkma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 als Gesamtübersicht aller Leitsät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gebo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32240" y="533520"/>
            <a:ext cx="6281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ziales Benchmarking </a:t>
            </a:r>
            <a:br>
              <a:rPr sz="2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ndardauswertungsmöglichk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532240" y="533520"/>
            <a:ext cx="6281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wertung der Qualitätsmerkmale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zur  „Arbeitsgestaltung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1828800"/>
            <a:ext cx="13716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2133720"/>
            <a:ext cx="304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828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1828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1828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95480" y="1828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57600" y="1828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9800" y="1616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21920" y="1616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83680" y="1616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5800" y="1616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07920" y="1616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9072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7524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1460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7672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657600" y="1981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81040" y="1874880"/>
            <a:ext cx="254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81 (Ergebnis des Leitsatz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762120" y="2590920"/>
          <a:ext cx="746748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90920"/>
                    <a:ext cx="746748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696960" y="2033640"/>
          <a:ext cx="7750080" cy="34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2033640"/>
                    <a:ext cx="775008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2532240" y="533520"/>
            <a:ext cx="6281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Unternehmen im Vergleich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alitätsmerkmale zur Arbeitsgestal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532240" y="533520"/>
            <a:ext cx="6281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wertung der Qualitätsmerkmale</a:t>
            </a:r>
            <a:br>
              <a:rPr sz="26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„Arbeits- und Gesundheitsschutz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480" y="1828800"/>
            <a:ext cx="1447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2133720"/>
            <a:ext cx="304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828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71600" y="1828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33720" y="1828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95480" y="1828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57600" y="1828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9800" y="1616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21920" y="1616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83680" y="1616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45800" y="1616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07920" y="1616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072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1460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1981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81040" y="1874880"/>
            <a:ext cx="254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90 (Ergebnis des Leitsatz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609480" y="2362320"/>
          <a:ext cx="800100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8001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532240" y="533520"/>
            <a:ext cx="6281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Unternehmen im Vergleich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um „Arbeits- und Gesundheitsschutz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728640" y="1757520"/>
          <a:ext cx="7688160" cy="412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1757520"/>
                    <a:ext cx="768816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äsentation der Ergebnis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präsentation im Betri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rstellung der Auswertung, Vortrag und Hand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derierte Disku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st das Bild stimm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lche betrieblichen Themen werden priorisi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 sind erste Handlungsansät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edback und Verabredung nächster Schri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38280" y="38088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Was unterscheidet soCa von anderen Instrumente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iele: Arbeitssituation der Beschäftigten verbessern, Motivation und Engagement entwickeln, Qualität steig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l-Größen als Grundlage für den betrieblichen Dialog entwicke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hrnehmung der Beschäftigten in den Mittelpunkt stellen, Interessenvertretung und Geschäftsleitung im Di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tive Mitarbeiterbeteil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 des betrieblichen Dialogs zur Zielerreichung, Unternehmensvergleiche ermögl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e geht es weiter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 befinden uns derzeit in der Testphase /Prototy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sherige Erfahrungen: Akzeptanz, da alle Akteure einbezogen werden, Themen richtig besetzt sind, Problemdruck vorhanden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nächsten Schritte: Akzeptanztest ab Oktober 04 bei 200 CC-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takt: Projekt soCa Tel. 0421 36301944, info@soca-online.de, Internet: www. soca-online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70000" y="5086440"/>
              <a:ext cx="6773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555480" indent="-5554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Danke für Ihre Aufmerksamkeit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7" name="smiley" descr=""/>
            <p:cNvPicPr/>
            <p:nvPr/>
          </p:nvPicPr>
          <p:blipFill>
            <a:blip r:embed="rId1"/>
            <a:stretch/>
          </p:blipFill>
          <p:spPr>
            <a:xfrm>
              <a:off x="4008600" y="4113360"/>
              <a:ext cx="84456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soca_nur" descr=""/>
            <p:cNvPicPr/>
            <p:nvPr/>
          </p:nvPicPr>
          <p:blipFill>
            <a:blip r:embed="rId2"/>
            <a:stretch/>
          </p:blipFill>
          <p:spPr>
            <a:xfrm>
              <a:off x="1301760" y="1295280"/>
              <a:ext cx="6470640" cy="2227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Soziales Benchmarking als Türöffn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c2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c2271"/>
                </a:solidFill>
                <a:latin typeface="Arial"/>
              </a:rPr>
              <a:t>Nutzung eines verbreiteten Instruments für gewerkschaftliche Zwecke, als „Türöffner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c2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c2271"/>
                </a:solidFill>
                <a:latin typeface="Arial"/>
              </a:rPr>
              <a:t>Benchmarking wird zu einem sozialen Benchmarking als </a:t>
            </a:r>
            <a:r>
              <a:rPr b="1" lang="de-DE" sz="1800" spc="-1" strike="noStrike" u="sng">
                <a:solidFill>
                  <a:srgbClr val="1c2271"/>
                </a:solidFill>
                <a:uFillTx/>
                <a:latin typeface="Arial"/>
              </a:rPr>
              <a:t>zusätzliches</a:t>
            </a:r>
            <a:r>
              <a:rPr b="1" lang="de-DE" sz="1800" spc="-1" strike="noStrike">
                <a:solidFill>
                  <a:srgbClr val="1c2271"/>
                </a:solidFill>
                <a:latin typeface="Arial"/>
              </a:rPr>
              <a:t> gewerkschaftliches Instrument humaner Arbeitsgestaltung weiterentwickelt . Die Beschäftigten selbst wurden bei der Entwicklung des Instruments einbezogen (Themen), ihre Wahrnehmung und ihr Wissen ist der Ausgangspunk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c2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c2271"/>
                </a:solidFill>
                <a:latin typeface="Arial"/>
              </a:rPr>
              <a:t>Arbeitnehmerorientierung und Nachhaltigkeit sind Grundgedanken des sozialen Benchmarking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c2271"/>
                </a:solidFill>
                <a:latin typeface="Arial"/>
              </a:rPr>
              <a:t>	</a:t>
            </a:r>
            <a:r>
              <a:rPr b="1" lang="de-DE" sz="1800" spc="-1" strike="noStrike" u="sng">
                <a:solidFill>
                  <a:srgbClr val="1c2271"/>
                </a:solidFill>
                <a:uFillTx/>
                <a:latin typeface="Arial"/>
              </a:rPr>
              <a:t>Alle</a:t>
            </a:r>
            <a:r>
              <a:rPr b="1" lang="de-DE" sz="1800" spc="-1" strike="noStrike">
                <a:solidFill>
                  <a:srgbClr val="1c2271"/>
                </a:solidFill>
                <a:latin typeface="Arial"/>
              </a:rPr>
              <a:t> Akteure werden von Anfang an einbezogen, keine/r hat Informationsvorsprünge. Wir geben den Betrieben Material an die Hand, mit dem sie weiterarbeiten (können), Ideen zur Weiterarbeit werden </a:t>
            </a:r>
            <a:r>
              <a:rPr b="1" lang="de-DE" sz="1800" spc="-1" strike="noStrike" u="sng">
                <a:solidFill>
                  <a:srgbClr val="1c2271"/>
                </a:solidFill>
                <a:uFillTx/>
                <a:latin typeface="Arial"/>
              </a:rPr>
              <a:t>gemeinsam</a:t>
            </a:r>
            <a:r>
              <a:rPr b="1" lang="de-DE" sz="1800" spc="-1" strike="noStrike">
                <a:solidFill>
                  <a:srgbClr val="1c2271"/>
                </a:solidFill>
                <a:latin typeface="Arial"/>
              </a:rPr>
              <a:t> entwicke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32240" y="685800"/>
            <a:ext cx="6281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Soziales Benchmarking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57400"/>
            <a:ext cx="563868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ziales 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llt die Beschäftigtenwahrnehmung in den Vordergrun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öht die Identifikation der Beschäftigten mit ihrer Arbei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d zum Ausgangspunkt für Veränderungsprozesse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auen-massband" descr=""/>
          <p:cNvPicPr/>
          <p:nvPr/>
        </p:nvPicPr>
        <p:blipFill>
          <a:blip r:embed="rId1"/>
          <a:stretch/>
        </p:blipFill>
        <p:spPr>
          <a:xfrm>
            <a:off x="533520" y="2193840"/>
            <a:ext cx="17492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14600" y="685800"/>
            <a:ext cx="6281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as soCa-Tool</a:t>
            </a:r>
            <a:br>
              <a:rPr sz="2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ziales Benchmarking und betrieblicher Di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4000" y="5477040"/>
            <a:ext cx="14400" cy="179280"/>
          </a:xfrm>
          <a:custGeom>
            <a:avLst/>
            <a:gdLst/>
            <a:ahLst/>
            <a:rect l="l" t="t" r="r" b="b"/>
            <a:pathLst>
              <a:path w="9" h="113">
                <a:moveTo>
                  <a:pt x="5" y="113"/>
                </a:moveTo>
                <a:lnTo>
                  <a:pt x="9" y="113"/>
                </a:lnTo>
                <a:lnTo>
                  <a:pt x="9" y="0"/>
                </a:lnTo>
                <a:lnTo>
                  <a:pt x="0" y="0"/>
                </a:lnTo>
                <a:lnTo>
                  <a:pt x="0" y="113"/>
                </a:lnTo>
                <a:lnTo>
                  <a:pt x="5" y="1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54400" y="5607000"/>
            <a:ext cx="90720" cy="103320"/>
          </a:xfrm>
          <a:custGeom>
            <a:avLst/>
            <a:gdLst/>
            <a:ahLst/>
            <a:rect l="l" t="t" r="r" b="b"/>
            <a:pathLst>
              <a:path w="57" h="65">
                <a:moveTo>
                  <a:pt x="30" y="65"/>
                </a:moveTo>
                <a:lnTo>
                  <a:pt x="57" y="0"/>
                </a:lnTo>
                <a:lnTo>
                  <a:pt x="57" y="0"/>
                </a:lnTo>
                <a:lnTo>
                  <a:pt x="57" y="0"/>
                </a:lnTo>
                <a:lnTo>
                  <a:pt x="55" y="2"/>
                </a:lnTo>
                <a:lnTo>
                  <a:pt x="52" y="2"/>
                </a:lnTo>
                <a:lnTo>
                  <a:pt x="50" y="2"/>
                </a:lnTo>
                <a:lnTo>
                  <a:pt x="50" y="2"/>
                </a:lnTo>
                <a:lnTo>
                  <a:pt x="48" y="4"/>
                </a:lnTo>
                <a:lnTo>
                  <a:pt x="46" y="4"/>
                </a:lnTo>
                <a:lnTo>
                  <a:pt x="43" y="4"/>
                </a:lnTo>
                <a:lnTo>
                  <a:pt x="41" y="4"/>
                </a:lnTo>
                <a:lnTo>
                  <a:pt x="41" y="6"/>
                </a:lnTo>
                <a:lnTo>
                  <a:pt x="39" y="6"/>
                </a:lnTo>
                <a:lnTo>
                  <a:pt x="37" y="6"/>
                </a:lnTo>
                <a:lnTo>
                  <a:pt x="34" y="6"/>
                </a:lnTo>
                <a:lnTo>
                  <a:pt x="32" y="6"/>
                </a:lnTo>
                <a:lnTo>
                  <a:pt x="32" y="6"/>
                </a:lnTo>
                <a:lnTo>
                  <a:pt x="30" y="6"/>
                </a:lnTo>
                <a:lnTo>
                  <a:pt x="28" y="6"/>
                </a:lnTo>
                <a:lnTo>
                  <a:pt x="25" y="6"/>
                </a:lnTo>
                <a:lnTo>
                  <a:pt x="23" y="6"/>
                </a:lnTo>
                <a:lnTo>
                  <a:pt x="23" y="6"/>
                </a:lnTo>
                <a:lnTo>
                  <a:pt x="21" y="6"/>
                </a:lnTo>
                <a:lnTo>
                  <a:pt x="18" y="6"/>
                </a:lnTo>
                <a:lnTo>
                  <a:pt x="16" y="4"/>
                </a:lnTo>
                <a:lnTo>
                  <a:pt x="16" y="4"/>
                </a:lnTo>
                <a:lnTo>
                  <a:pt x="14" y="4"/>
                </a:lnTo>
                <a:lnTo>
                  <a:pt x="12" y="4"/>
                </a:lnTo>
                <a:lnTo>
                  <a:pt x="9" y="2"/>
                </a:lnTo>
                <a:lnTo>
                  <a:pt x="7" y="2"/>
                </a:lnTo>
                <a:lnTo>
                  <a:pt x="7" y="2"/>
                </a:lnTo>
                <a:lnTo>
                  <a:pt x="5" y="2"/>
                </a:lnTo>
                <a:lnTo>
                  <a:pt x="3" y="0"/>
                </a:lnTo>
                <a:lnTo>
                  <a:pt x="0" y="0"/>
                </a:lnTo>
                <a:lnTo>
                  <a:pt x="30" y="65"/>
                </a:lnTo>
                <a:lnTo>
                  <a:pt x="30" y="6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22600" y="5478480"/>
            <a:ext cx="4836960" cy="87120"/>
          </a:xfrm>
          <a:custGeom>
            <a:avLst/>
            <a:gdLst/>
            <a:ahLst/>
            <a:rect l="l" t="t" r="r" b="b"/>
            <a:pathLst>
              <a:path w="2318" h="61">
                <a:moveTo>
                  <a:pt x="0" y="0"/>
                </a:moveTo>
                <a:lnTo>
                  <a:pt x="0" y="61"/>
                </a:lnTo>
                <a:lnTo>
                  <a:pt x="2318" y="61"/>
                </a:lnTo>
                <a:lnTo>
                  <a:pt x="2318" y="4"/>
                </a:lnTo>
              </a:path>
            </a:pathLst>
          </a:custGeom>
          <a:noFill/>
          <a:ln w="144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302280" y="1596960"/>
            <a:ext cx="1745640" cy="367920"/>
            <a:chOff x="3302280" y="1596960"/>
            <a:chExt cx="1745640" cy="367920"/>
          </a:xfrm>
        </p:grpSpPr>
        <p:sp>
          <p:nvSpPr>
            <p:cNvPr id="70" name=""/>
            <p:cNvSpPr/>
            <p:nvPr/>
          </p:nvSpPr>
          <p:spPr>
            <a:xfrm>
              <a:off x="3302280" y="1660680"/>
              <a:ext cx="174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s              To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42640" y="1596960"/>
              <a:ext cx="331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50023"/>
                  </a:solidFill>
                  <a:latin typeface="Frutiger 55 Roman"/>
                </a:rPr>
                <a:t>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55120" y="1598760"/>
              <a:ext cx="36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83a93"/>
                  </a:solidFill>
                  <a:latin typeface="Frutiger 55 Roman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202920" y="1951200"/>
            <a:ext cx="200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ziales Benchma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373480" y="2208240"/>
            <a:ext cx="3663720" cy="120240"/>
            <a:chOff x="2373480" y="2208240"/>
            <a:chExt cx="3663720" cy="120240"/>
          </a:xfrm>
        </p:grpSpPr>
        <p:sp>
          <p:nvSpPr>
            <p:cNvPr id="75" name=""/>
            <p:cNvSpPr/>
            <p:nvPr/>
          </p:nvSpPr>
          <p:spPr>
            <a:xfrm>
              <a:off x="2373480" y="2212920"/>
              <a:ext cx="3663720" cy="1800"/>
            </a:xfrm>
            <a:prstGeom prst="line">
              <a:avLst/>
            </a:prstGeom>
            <a:ln w="144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378160" y="2214360"/>
              <a:ext cx="1440" cy="114120"/>
            </a:xfrm>
            <a:prstGeom prst="line">
              <a:avLst/>
            </a:prstGeom>
            <a:ln w="144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3960" y="2208240"/>
              <a:ext cx="1800" cy="114480"/>
            </a:xfrm>
            <a:prstGeom prst="line">
              <a:avLst/>
            </a:prstGeom>
            <a:ln w="144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733920" y="2362320"/>
            <a:ext cx="914400" cy="623880"/>
            <a:chOff x="3733920" y="2362320"/>
            <a:chExt cx="914400" cy="623880"/>
          </a:xfrm>
        </p:grpSpPr>
        <p:sp>
          <p:nvSpPr>
            <p:cNvPr id="79" name=""/>
            <p:cNvSpPr/>
            <p:nvPr/>
          </p:nvSpPr>
          <p:spPr>
            <a:xfrm>
              <a:off x="4154400" y="281304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5" y="54"/>
                  </a:moveTo>
                  <a:lnTo>
                    <a:pt x="9" y="5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5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14800" y="2895480"/>
              <a:ext cx="93600" cy="9072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30" y="57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30" y="57"/>
                  </a:lnTo>
                  <a:lnTo>
                    <a:pt x="3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33920" y="2362320"/>
              <a:ext cx="9144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77920" y="250524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bgle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244520" y="2343240"/>
            <a:ext cx="1188720" cy="502920"/>
            <a:chOff x="1244520" y="2343240"/>
            <a:chExt cx="1188720" cy="502920"/>
          </a:xfrm>
        </p:grpSpPr>
        <p:sp>
          <p:nvSpPr>
            <p:cNvPr id="84" name=""/>
            <p:cNvSpPr/>
            <p:nvPr/>
          </p:nvSpPr>
          <p:spPr>
            <a:xfrm>
              <a:off x="1244520" y="2343240"/>
              <a:ext cx="1008000" cy="502920"/>
            </a:xfrm>
            <a:prstGeom prst="rect">
              <a:avLst/>
            </a:pr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98600" y="2436840"/>
              <a:ext cx="668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all Ce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Forsch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251080" y="2519280"/>
              <a:ext cx="182160" cy="93600"/>
              <a:chOff x="2251080" y="2519280"/>
              <a:chExt cx="182160" cy="93600"/>
            </a:xfrm>
          </p:grpSpPr>
          <p:sp>
            <p:nvSpPr>
              <p:cNvPr id="87" name=""/>
              <p:cNvSpPr/>
              <p:nvPr/>
            </p:nvSpPr>
            <p:spPr>
              <a:xfrm>
                <a:off x="2251080" y="2562120"/>
                <a:ext cx="85680" cy="11160"/>
              </a:xfrm>
              <a:custGeom>
                <a:avLst/>
                <a:gdLst/>
                <a:ahLst/>
                <a:rect l="l" t="t" r="r" b="b"/>
                <a:pathLst>
                  <a:path w="54" h="7">
                    <a:moveTo>
                      <a:pt x="54" y="3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7"/>
                    </a:lnTo>
                    <a:lnTo>
                      <a:pt x="54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339640" y="251928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59" y="30"/>
                    </a:moveTo>
                    <a:lnTo>
                      <a:pt x="0" y="0"/>
                    </a:lnTo>
                    <a:lnTo>
                      <a:pt x="0" y="59"/>
                    </a:lnTo>
                    <a:lnTo>
                      <a:pt x="59" y="30"/>
                    </a:lnTo>
                    <a:lnTo>
                      <a:pt x="59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2511360" y="2343240"/>
            <a:ext cx="1176480" cy="502920"/>
            <a:chOff x="2511360" y="2343240"/>
            <a:chExt cx="1176480" cy="502920"/>
          </a:xfrm>
        </p:grpSpPr>
        <p:grpSp>
          <p:nvGrpSpPr>
            <p:cNvPr id="90" name=""/>
            <p:cNvGrpSpPr/>
            <p:nvPr/>
          </p:nvGrpSpPr>
          <p:grpSpPr>
            <a:xfrm>
              <a:off x="2511360" y="2343240"/>
              <a:ext cx="1008000" cy="502920"/>
              <a:chOff x="2511360" y="2343240"/>
              <a:chExt cx="1008000" cy="502920"/>
            </a:xfrm>
          </p:grpSpPr>
          <p:sp>
            <p:nvSpPr>
              <p:cNvPr id="91" name=""/>
              <p:cNvSpPr/>
              <p:nvPr/>
            </p:nvSpPr>
            <p:spPr>
              <a:xfrm>
                <a:off x="2511360" y="2343240"/>
                <a:ext cx="1008000" cy="502920"/>
              </a:xfrm>
              <a:prstGeom prst="rect">
                <a:avLst/>
              </a:pr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562120" y="2347920"/>
                <a:ext cx="90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Sozia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Benchma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(Soll-Situation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3511440" y="2538360"/>
              <a:ext cx="176400" cy="93600"/>
              <a:chOff x="3511440" y="2538360"/>
              <a:chExt cx="176400" cy="93600"/>
            </a:xfrm>
          </p:grpSpPr>
          <p:sp>
            <p:nvSpPr>
              <p:cNvPr id="94" name=""/>
              <p:cNvSpPr/>
              <p:nvPr/>
            </p:nvSpPr>
            <p:spPr>
              <a:xfrm>
                <a:off x="3511440" y="2581200"/>
                <a:ext cx="85680" cy="11160"/>
              </a:xfrm>
              <a:custGeom>
                <a:avLst/>
                <a:gdLst/>
                <a:ahLst/>
                <a:rect l="l" t="t" r="r" b="b"/>
                <a:pathLst>
                  <a:path w="54" h="7">
                    <a:moveTo>
                      <a:pt x="54" y="3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7"/>
                    </a:lnTo>
                    <a:lnTo>
                      <a:pt x="54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93880" y="2538360"/>
                <a:ext cx="9396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59" y="30"/>
                    </a:moveTo>
                    <a:lnTo>
                      <a:pt x="0" y="0"/>
                    </a:lnTo>
                    <a:lnTo>
                      <a:pt x="0" y="59"/>
                    </a:lnTo>
                    <a:lnTo>
                      <a:pt x="59" y="30"/>
                    </a:lnTo>
                    <a:lnTo>
                      <a:pt x="59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"/>
          <p:cNvSpPr/>
          <p:nvPr/>
        </p:nvSpPr>
        <p:spPr>
          <a:xfrm>
            <a:off x="4888080" y="2343240"/>
            <a:ext cx="1008000" cy="503280"/>
          </a:xfrm>
          <a:prstGeom prst="rect">
            <a:avLst/>
          </a:prstGeom>
          <a:solidFill>
            <a:srgbClr val="fe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00400" y="2371680"/>
            <a:ext cx="7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heb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triebli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t-Zust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2604960"/>
            <a:ext cx="87480" cy="11160"/>
          </a:xfrm>
          <a:custGeom>
            <a:avLst/>
            <a:gdLst/>
            <a:ahLst/>
            <a:rect l="l" t="t" r="r" b="b"/>
            <a:pathLst>
              <a:path w="55" h="7">
                <a:moveTo>
                  <a:pt x="0" y="3"/>
                </a:moveTo>
                <a:lnTo>
                  <a:pt x="0" y="7"/>
                </a:lnTo>
                <a:lnTo>
                  <a:pt x="55" y="7"/>
                </a:lnTo>
                <a:lnTo>
                  <a:pt x="55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14920" y="2562120"/>
            <a:ext cx="88920" cy="93600"/>
          </a:xfrm>
          <a:custGeom>
            <a:avLst/>
            <a:gdLst/>
            <a:ahLst/>
            <a:rect l="l" t="t" r="r" b="b"/>
            <a:pathLst>
              <a:path w="56" h="59">
                <a:moveTo>
                  <a:pt x="0" y="30"/>
                </a:moveTo>
                <a:lnTo>
                  <a:pt x="56" y="59"/>
                </a:lnTo>
                <a:lnTo>
                  <a:pt x="56" y="0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57800" y="2340000"/>
            <a:ext cx="1008000" cy="503280"/>
          </a:xfrm>
          <a:prstGeom prst="rect">
            <a:avLst/>
          </a:prstGeom>
          <a:solidFill>
            <a:srgbClr val="fe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4920" y="2359080"/>
            <a:ext cx="8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es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bess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67440" y="2560680"/>
            <a:ext cx="85680" cy="14400"/>
          </a:xfrm>
          <a:custGeom>
            <a:avLst/>
            <a:gdLst/>
            <a:ahLst/>
            <a:rect l="l" t="t" r="r" b="b"/>
            <a:pathLst>
              <a:path w="54" h="9">
                <a:moveTo>
                  <a:pt x="0" y="4"/>
                </a:moveTo>
                <a:lnTo>
                  <a:pt x="0" y="9"/>
                </a:lnTo>
                <a:lnTo>
                  <a:pt x="54" y="9"/>
                </a:lnTo>
                <a:lnTo>
                  <a:pt x="54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77080" y="252108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0" y="29"/>
                </a:moveTo>
                <a:lnTo>
                  <a:pt x="59" y="59"/>
                </a:lnTo>
                <a:lnTo>
                  <a:pt x="59" y="0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752560" y="3741840"/>
            <a:ext cx="2934000" cy="502920"/>
            <a:chOff x="2752560" y="3741840"/>
            <a:chExt cx="2934000" cy="502920"/>
          </a:xfrm>
        </p:grpSpPr>
        <p:sp>
          <p:nvSpPr>
            <p:cNvPr id="105" name=""/>
            <p:cNvSpPr/>
            <p:nvPr/>
          </p:nvSpPr>
          <p:spPr>
            <a:xfrm>
              <a:off x="2752560" y="3741840"/>
              <a:ext cx="2934000" cy="50292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87360" y="3808440"/>
              <a:ext cx="2207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rgebnispräs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inleitung betrieblicher Dialo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932120" y="5737320"/>
            <a:ext cx="4537080" cy="417240"/>
          </a:xfrm>
          <a:prstGeom prst="rect">
            <a:avLst/>
          </a:prstGeom>
          <a:solidFill>
            <a:srgbClr val="144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84280" y="5813280"/>
            <a:ext cx="191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trieblicher Di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44520" y="5122800"/>
            <a:ext cx="1008000" cy="360360"/>
          </a:xfrm>
          <a:prstGeom prst="rect">
            <a:avLst/>
          </a:prstGeom>
          <a:solidFill>
            <a:srgbClr val="fe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87160" y="5227560"/>
            <a:ext cx="48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6480" y="5398920"/>
            <a:ext cx="1440" cy="90720"/>
          </a:xfrm>
          <a:prstGeom prst="line">
            <a:avLst/>
          </a:prstGeom>
          <a:ln w="144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90840" y="5132520"/>
            <a:ext cx="1008000" cy="360360"/>
          </a:xfrm>
          <a:prstGeom prst="rect">
            <a:avLst/>
          </a:prstGeom>
          <a:solidFill>
            <a:srgbClr val="fe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03600" y="5157720"/>
            <a:ext cx="61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ersonen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rupp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89280" y="5122800"/>
            <a:ext cx="1008000" cy="360360"/>
          </a:xfrm>
          <a:prstGeom prst="rect">
            <a:avLst/>
          </a:prstGeom>
          <a:solidFill>
            <a:srgbClr val="fe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01400" y="522432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0480" y="5389560"/>
            <a:ext cx="1800" cy="100080"/>
          </a:xfrm>
          <a:prstGeom prst="line">
            <a:avLst/>
          </a:prstGeom>
          <a:ln w="144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0280" y="5127480"/>
            <a:ext cx="1008000" cy="360360"/>
          </a:xfrm>
          <a:prstGeom prst="rect">
            <a:avLst/>
          </a:prstGeom>
          <a:solidFill>
            <a:srgbClr val="fe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39720" y="5154480"/>
            <a:ext cx="62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ieder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assun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5122800"/>
            <a:ext cx="1128600" cy="360360"/>
          </a:xfrm>
          <a:prstGeom prst="rect">
            <a:avLst/>
          </a:prstGeom>
          <a:solidFill>
            <a:srgbClr val="fe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41960" y="5145120"/>
            <a:ext cx="96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Überbetriebli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glei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091040" y="3124080"/>
            <a:ext cx="175680" cy="615600"/>
            <a:chOff x="4091040" y="3124080"/>
            <a:chExt cx="175680" cy="615600"/>
          </a:xfrm>
        </p:grpSpPr>
        <p:sp>
          <p:nvSpPr>
            <p:cNvPr id="122" name=""/>
            <p:cNvSpPr/>
            <p:nvPr/>
          </p:nvSpPr>
          <p:spPr>
            <a:xfrm>
              <a:off x="4091040" y="3124080"/>
              <a:ext cx="175680" cy="6156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91040" y="3124080"/>
              <a:ext cx="175680" cy="61560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99680" y="3350880"/>
              <a:ext cx="162360" cy="16200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0" y="36"/>
                  </a:moveTo>
                  <a:lnTo>
                    <a:pt x="0" y="29"/>
                  </a:lnTo>
                  <a:lnTo>
                    <a:pt x="3" y="22"/>
                  </a:lnTo>
                  <a:lnTo>
                    <a:pt x="5" y="15"/>
                  </a:lnTo>
                  <a:lnTo>
                    <a:pt x="9" y="11"/>
                  </a:lnTo>
                  <a:lnTo>
                    <a:pt x="16" y="6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2"/>
                  </a:lnTo>
                  <a:lnTo>
                    <a:pt x="57" y="6"/>
                  </a:lnTo>
                  <a:lnTo>
                    <a:pt x="64" y="11"/>
                  </a:lnTo>
                  <a:lnTo>
                    <a:pt x="68" y="15"/>
                  </a:lnTo>
                  <a:lnTo>
                    <a:pt x="70" y="22"/>
                  </a:lnTo>
                  <a:lnTo>
                    <a:pt x="73" y="29"/>
                  </a:lnTo>
                  <a:lnTo>
                    <a:pt x="75" y="36"/>
                  </a:lnTo>
                  <a:lnTo>
                    <a:pt x="73" y="45"/>
                  </a:lnTo>
                  <a:lnTo>
                    <a:pt x="70" y="52"/>
                  </a:lnTo>
                  <a:lnTo>
                    <a:pt x="68" y="58"/>
                  </a:lnTo>
                  <a:lnTo>
                    <a:pt x="64" y="63"/>
                  </a:lnTo>
                  <a:lnTo>
                    <a:pt x="57" y="67"/>
                  </a:lnTo>
                  <a:lnTo>
                    <a:pt x="50" y="72"/>
                  </a:lnTo>
                  <a:lnTo>
                    <a:pt x="43" y="74"/>
                  </a:lnTo>
                  <a:lnTo>
                    <a:pt x="37" y="74"/>
                  </a:lnTo>
                  <a:lnTo>
                    <a:pt x="30" y="74"/>
                  </a:lnTo>
                  <a:lnTo>
                    <a:pt x="23" y="72"/>
                  </a:lnTo>
                  <a:lnTo>
                    <a:pt x="16" y="67"/>
                  </a:lnTo>
                  <a:lnTo>
                    <a:pt x="9" y="63"/>
                  </a:lnTo>
                  <a:lnTo>
                    <a:pt x="5" y="58"/>
                  </a:lnTo>
                  <a:lnTo>
                    <a:pt x="3" y="52"/>
                  </a:lnTo>
                  <a:lnTo>
                    <a:pt x="0" y="45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99680" y="3350880"/>
              <a:ext cx="162360" cy="16200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0" y="36"/>
                  </a:moveTo>
                  <a:lnTo>
                    <a:pt x="0" y="29"/>
                  </a:lnTo>
                  <a:lnTo>
                    <a:pt x="3" y="22"/>
                  </a:lnTo>
                  <a:lnTo>
                    <a:pt x="5" y="15"/>
                  </a:lnTo>
                  <a:lnTo>
                    <a:pt x="9" y="11"/>
                  </a:lnTo>
                  <a:lnTo>
                    <a:pt x="16" y="6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2"/>
                  </a:lnTo>
                  <a:lnTo>
                    <a:pt x="57" y="6"/>
                  </a:lnTo>
                  <a:lnTo>
                    <a:pt x="64" y="11"/>
                  </a:lnTo>
                  <a:lnTo>
                    <a:pt x="68" y="15"/>
                  </a:lnTo>
                  <a:lnTo>
                    <a:pt x="70" y="22"/>
                  </a:lnTo>
                  <a:lnTo>
                    <a:pt x="73" y="29"/>
                  </a:lnTo>
                  <a:lnTo>
                    <a:pt x="75" y="36"/>
                  </a:lnTo>
                  <a:lnTo>
                    <a:pt x="73" y="45"/>
                  </a:lnTo>
                  <a:lnTo>
                    <a:pt x="70" y="52"/>
                  </a:lnTo>
                  <a:lnTo>
                    <a:pt x="68" y="58"/>
                  </a:lnTo>
                  <a:lnTo>
                    <a:pt x="64" y="63"/>
                  </a:lnTo>
                  <a:lnTo>
                    <a:pt x="57" y="67"/>
                  </a:lnTo>
                  <a:lnTo>
                    <a:pt x="50" y="72"/>
                  </a:lnTo>
                  <a:lnTo>
                    <a:pt x="43" y="74"/>
                  </a:lnTo>
                  <a:lnTo>
                    <a:pt x="37" y="74"/>
                  </a:lnTo>
                  <a:lnTo>
                    <a:pt x="30" y="74"/>
                  </a:lnTo>
                  <a:lnTo>
                    <a:pt x="23" y="72"/>
                  </a:lnTo>
                  <a:lnTo>
                    <a:pt x="16" y="67"/>
                  </a:lnTo>
                  <a:lnTo>
                    <a:pt x="9" y="63"/>
                  </a:lnTo>
                  <a:lnTo>
                    <a:pt x="5" y="58"/>
                  </a:lnTo>
                  <a:lnTo>
                    <a:pt x="3" y="52"/>
                  </a:lnTo>
                  <a:lnTo>
                    <a:pt x="0" y="45"/>
                  </a:lnTo>
                  <a:lnTo>
                    <a:pt x="0" y="3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99680" y="3152160"/>
              <a:ext cx="162360" cy="163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0" y="39"/>
                  </a:moveTo>
                  <a:lnTo>
                    <a:pt x="0" y="30"/>
                  </a:lnTo>
                  <a:lnTo>
                    <a:pt x="3" y="23"/>
                  </a:lnTo>
                  <a:lnTo>
                    <a:pt x="5" y="18"/>
                  </a:lnTo>
                  <a:lnTo>
                    <a:pt x="9" y="12"/>
                  </a:lnTo>
                  <a:lnTo>
                    <a:pt x="16" y="7"/>
                  </a:lnTo>
                  <a:lnTo>
                    <a:pt x="23" y="5"/>
                  </a:lnTo>
                  <a:lnTo>
                    <a:pt x="30" y="3"/>
                  </a:lnTo>
                  <a:lnTo>
                    <a:pt x="37" y="0"/>
                  </a:lnTo>
                  <a:lnTo>
                    <a:pt x="43" y="3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4" y="12"/>
                  </a:lnTo>
                  <a:lnTo>
                    <a:pt x="68" y="18"/>
                  </a:lnTo>
                  <a:lnTo>
                    <a:pt x="70" y="23"/>
                  </a:lnTo>
                  <a:lnTo>
                    <a:pt x="73" y="30"/>
                  </a:lnTo>
                  <a:lnTo>
                    <a:pt x="75" y="39"/>
                  </a:lnTo>
                  <a:lnTo>
                    <a:pt x="73" y="45"/>
                  </a:lnTo>
                  <a:lnTo>
                    <a:pt x="70" y="52"/>
                  </a:lnTo>
                  <a:lnTo>
                    <a:pt x="68" y="59"/>
                  </a:lnTo>
                  <a:lnTo>
                    <a:pt x="64" y="66"/>
                  </a:lnTo>
                  <a:lnTo>
                    <a:pt x="57" y="70"/>
                  </a:lnTo>
                  <a:lnTo>
                    <a:pt x="50" y="73"/>
                  </a:lnTo>
                  <a:lnTo>
                    <a:pt x="43" y="75"/>
                  </a:lnTo>
                  <a:lnTo>
                    <a:pt x="37" y="75"/>
                  </a:lnTo>
                  <a:lnTo>
                    <a:pt x="30" y="75"/>
                  </a:lnTo>
                  <a:lnTo>
                    <a:pt x="23" y="73"/>
                  </a:lnTo>
                  <a:lnTo>
                    <a:pt x="16" y="70"/>
                  </a:lnTo>
                  <a:lnTo>
                    <a:pt x="9" y="66"/>
                  </a:lnTo>
                  <a:lnTo>
                    <a:pt x="5" y="59"/>
                  </a:lnTo>
                  <a:lnTo>
                    <a:pt x="3" y="52"/>
                  </a:lnTo>
                  <a:lnTo>
                    <a:pt x="0" y="4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99680" y="3152160"/>
              <a:ext cx="162360" cy="163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0" y="39"/>
                  </a:moveTo>
                  <a:lnTo>
                    <a:pt x="0" y="30"/>
                  </a:lnTo>
                  <a:lnTo>
                    <a:pt x="3" y="23"/>
                  </a:lnTo>
                  <a:lnTo>
                    <a:pt x="5" y="18"/>
                  </a:lnTo>
                  <a:lnTo>
                    <a:pt x="9" y="12"/>
                  </a:lnTo>
                  <a:lnTo>
                    <a:pt x="16" y="7"/>
                  </a:lnTo>
                  <a:lnTo>
                    <a:pt x="23" y="5"/>
                  </a:lnTo>
                  <a:lnTo>
                    <a:pt x="30" y="3"/>
                  </a:lnTo>
                  <a:lnTo>
                    <a:pt x="37" y="0"/>
                  </a:lnTo>
                  <a:lnTo>
                    <a:pt x="43" y="3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4" y="12"/>
                  </a:lnTo>
                  <a:lnTo>
                    <a:pt x="68" y="18"/>
                  </a:lnTo>
                  <a:lnTo>
                    <a:pt x="70" y="23"/>
                  </a:lnTo>
                  <a:lnTo>
                    <a:pt x="73" y="30"/>
                  </a:lnTo>
                  <a:lnTo>
                    <a:pt x="75" y="39"/>
                  </a:lnTo>
                  <a:lnTo>
                    <a:pt x="73" y="45"/>
                  </a:lnTo>
                  <a:lnTo>
                    <a:pt x="70" y="52"/>
                  </a:lnTo>
                  <a:lnTo>
                    <a:pt x="68" y="59"/>
                  </a:lnTo>
                  <a:lnTo>
                    <a:pt x="64" y="66"/>
                  </a:lnTo>
                  <a:lnTo>
                    <a:pt x="57" y="70"/>
                  </a:lnTo>
                  <a:lnTo>
                    <a:pt x="50" y="73"/>
                  </a:lnTo>
                  <a:lnTo>
                    <a:pt x="43" y="75"/>
                  </a:lnTo>
                  <a:lnTo>
                    <a:pt x="37" y="75"/>
                  </a:lnTo>
                  <a:lnTo>
                    <a:pt x="30" y="75"/>
                  </a:lnTo>
                  <a:lnTo>
                    <a:pt x="23" y="73"/>
                  </a:lnTo>
                  <a:lnTo>
                    <a:pt x="16" y="70"/>
                  </a:lnTo>
                  <a:lnTo>
                    <a:pt x="9" y="66"/>
                  </a:lnTo>
                  <a:lnTo>
                    <a:pt x="5" y="59"/>
                  </a:lnTo>
                  <a:lnTo>
                    <a:pt x="3" y="52"/>
                  </a:lnTo>
                  <a:lnTo>
                    <a:pt x="0" y="45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99680" y="3547440"/>
              <a:ext cx="162360" cy="163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0" y="39"/>
                  </a:moveTo>
                  <a:lnTo>
                    <a:pt x="0" y="29"/>
                  </a:lnTo>
                  <a:lnTo>
                    <a:pt x="3" y="23"/>
                  </a:lnTo>
                  <a:lnTo>
                    <a:pt x="5" y="18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5"/>
                  </a:lnTo>
                  <a:lnTo>
                    <a:pt x="30" y="2"/>
                  </a:lnTo>
                  <a:lnTo>
                    <a:pt x="37" y="0"/>
                  </a:lnTo>
                  <a:lnTo>
                    <a:pt x="43" y="2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4" y="11"/>
                  </a:lnTo>
                  <a:lnTo>
                    <a:pt x="68" y="18"/>
                  </a:lnTo>
                  <a:lnTo>
                    <a:pt x="70" y="23"/>
                  </a:lnTo>
                  <a:lnTo>
                    <a:pt x="73" y="29"/>
                  </a:lnTo>
                  <a:lnTo>
                    <a:pt x="75" y="39"/>
                  </a:lnTo>
                  <a:lnTo>
                    <a:pt x="73" y="45"/>
                  </a:lnTo>
                  <a:lnTo>
                    <a:pt x="70" y="52"/>
                  </a:lnTo>
                  <a:lnTo>
                    <a:pt x="68" y="59"/>
                  </a:lnTo>
                  <a:lnTo>
                    <a:pt x="64" y="66"/>
                  </a:lnTo>
                  <a:lnTo>
                    <a:pt x="57" y="70"/>
                  </a:lnTo>
                  <a:lnTo>
                    <a:pt x="50" y="72"/>
                  </a:lnTo>
                  <a:lnTo>
                    <a:pt x="43" y="75"/>
                  </a:lnTo>
                  <a:lnTo>
                    <a:pt x="37" y="75"/>
                  </a:lnTo>
                  <a:lnTo>
                    <a:pt x="30" y="75"/>
                  </a:lnTo>
                  <a:lnTo>
                    <a:pt x="23" y="72"/>
                  </a:lnTo>
                  <a:lnTo>
                    <a:pt x="16" y="70"/>
                  </a:lnTo>
                  <a:lnTo>
                    <a:pt x="9" y="66"/>
                  </a:lnTo>
                  <a:lnTo>
                    <a:pt x="5" y="59"/>
                  </a:lnTo>
                  <a:lnTo>
                    <a:pt x="3" y="52"/>
                  </a:lnTo>
                  <a:lnTo>
                    <a:pt x="0" y="4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99680" y="3547440"/>
              <a:ext cx="162360" cy="163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0" y="39"/>
                  </a:moveTo>
                  <a:lnTo>
                    <a:pt x="0" y="29"/>
                  </a:lnTo>
                  <a:lnTo>
                    <a:pt x="3" y="23"/>
                  </a:lnTo>
                  <a:lnTo>
                    <a:pt x="5" y="18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5"/>
                  </a:lnTo>
                  <a:lnTo>
                    <a:pt x="30" y="2"/>
                  </a:lnTo>
                  <a:lnTo>
                    <a:pt x="37" y="0"/>
                  </a:lnTo>
                  <a:lnTo>
                    <a:pt x="43" y="2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4" y="11"/>
                  </a:lnTo>
                  <a:lnTo>
                    <a:pt x="68" y="18"/>
                  </a:lnTo>
                  <a:lnTo>
                    <a:pt x="70" y="23"/>
                  </a:lnTo>
                  <a:lnTo>
                    <a:pt x="73" y="29"/>
                  </a:lnTo>
                  <a:lnTo>
                    <a:pt x="75" y="39"/>
                  </a:lnTo>
                  <a:lnTo>
                    <a:pt x="73" y="45"/>
                  </a:lnTo>
                  <a:lnTo>
                    <a:pt x="70" y="52"/>
                  </a:lnTo>
                  <a:lnTo>
                    <a:pt x="68" y="59"/>
                  </a:lnTo>
                  <a:lnTo>
                    <a:pt x="64" y="66"/>
                  </a:lnTo>
                  <a:lnTo>
                    <a:pt x="57" y="70"/>
                  </a:lnTo>
                  <a:lnTo>
                    <a:pt x="50" y="72"/>
                  </a:lnTo>
                  <a:lnTo>
                    <a:pt x="43" y="75"/>
                  </a:lnTo>
                  <a:lnTo>
                    <a:pt x="37" y="75"/>
                  </a:lnTo>
                  <a:lnTo>
                    <a:pt x="30" y="75"/>
                  </a:lnTo>
                  <a:lnTo>
                    <a:pt x="23" y="72"/>
                  </a:lnTo>
                  <a:lnTo>
                    <a:pt x="16" y="70"/>
                  </a:lnTo>
                  <a:lnTo>
                    <a:pt x="9" y="66"/>
                  </a:lnTo>
                  <a:lnTo>
                    <a:pt x="5" y="59"/>
                  </a:lnTo>
                  <a:lnTo>
                    <a:pt x="3" y="52"/>
                  </a:lnTo>
                  <a:lnTo>
                    <a:pt x="0" y="45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194000" y="4660920"/>
            <a:ext cx="14400" cy="290520"/>
          </a:xfrm>
          <a:custGeom>
            <a:avLst/>
            <a:gdLst/>
            <a:ahLst/>
            <a:rect l="l" t="t" r="r" b="b"/>
            <a:pathLst>
              <a:path w="9" h="183">
                <a:moveTo>
                  <a:pt x="5" y="183"/>
                </a:moveTo>
                <a:lnTo>
                  <a:pt x="9" y="183"/>
                </a:lnTo>
                <a:lnTo>
                  <a:pt x="9" y="0"/>
                </a:lnTo>
                <a:lnTo>
                  <a:pt x="0" y="0"/>
                </a:lnTo>
                <a:lnTo>
                  <a:pt x="0" y="183"/>
                </a:lnTo>
                <a:lnTo>
                  <a:pt x="5" y="18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59080" y="4921200"/>
            <a:ext cx="88920" cy="103320"/>
          </a:xfrm>
          <a:custGeom>
            <a:avLst/>
            <a:gdLst/>
            <a:ahLst/>
            <a:rect l="l" t="t" r="r" b="b"/>
            <a:pathLst>
              <a:path w="56" h="65">
                <a:moveTo>
                  <a:pt x="27" y="65"/>
                </a:moveTo>
                <a:lnTo>
                  <a:pt x="56" y="0"/>
                </a:lnTo>
                <a:lnTo>
                  <a:pt x="56" y="0"/>
                </a:lnTo>
                <a:lnTo>
                  <a:pt x="54" y="0"/>
                </a:lnTo>
                <a:lnTo>
                  <a:pt x="52" y="2"/>
                </a:lnTo>
                <a:lnTo>
                  <a:pt x="49" y="2"/>
                </a:lnTo>
                <a:lnTo>
                  <a:pt x="49" y="2"/>
                </a:lnTo>
                <a:lnTo>
                  <a:pt x="47" y="2"/>
                </a:lnTo>
                <a:lnTo>
                  <a:pt x="45" y="4"/>
                </a:lnTo>
                <a:lnTo>
                  <a:pt x="43" y="4"/>
                </a:lnTo>
                <a:lnTo>
                  <a:pt x="40" y="4"/>
                </a:lnTo>
                <a:lnTo>
                  <a:pt x="40" y="4"/>
                </a:lnTo>
                <a:lnTo>
                  <a:pt x="38" y="6"/>
                </a:lnTo>
                <a:lnTo>
                  <a:pt x="36" y="6"/>
                </a:lnTo>
                <a:lnTo>
                  <a:pt x="34" y="6"/>
                </a:lnTo>
                <a:lnTo>
                  <a:pt x="34" y="6"/>
                </a:lnTo>
                <a:lnTo>
                  <a:pt x="31" y="6"/>
                </a:lnTo>
                <a:lnTo>
                  <a:pt x="29" y="6"/>
                </a:lnTo>
                <a:lnTo>
                  <a:pt x="27" y="6"/>
                </a:lnTo>
                <a:lnTo>
                  <a:pt x="25" y="6"/>
                </a:lnTo>
                <a:lnTo>
                  <a:pt x="25" y="6"/>
                </a:lnTo>
                <a:lnTo>
                  <a:pt x="22" y="6"/>
                </a:lnTo>
                <a:lnTo>
                  <a:pt x="20" y="6"/>
                </a:lnTo>
                <a:lnTo>
                  <a:pt x="18" y="6"/>
                </a:lnTo>
                <a:lnTo>
                  <a:pt x="15" y="6"/>
                </a:lnTo>
                <a:lnTo>
                  <a:pt x="15" y="4"/>
                </a:lnTo>
                <a:lnTo>
                  <a:pt x="13" y="4"/>
                </a:lnTo>
                <a:lnTo>
                  <a:pt x="11" y="4"/>
                </a:lnTo>
                <a:lnTo>
                  <a:pt x="9" y="4"/>
                </a:lnTo>
                <a:lnTo>
                  <a:pt x="6" y="2"/>
                </a:lnTo>
                <a:lnTo>
                  <a:pt x="6" y="2"/>
                </a:lnTo>
                <a:lnTo>
                  <a:pt x="4" y="2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27" y="65"/>
                </a:lnTo>
                <a:lnTo>
                  <a:pt x="27" y="6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9360" y="4834080"/>
            <a:ext cx="93600" cy="190440"/>
            <a:chOff x="1719360" y="4834080"/>
            <a:chExt cx="93600" cy="190440"/>
          </a:xfrm>
        </p:grpSpPr>
        <p:sp>
          <p:nvSpPr>
            <p:cNvPr id="133" name=""/>
            <p:cNvSpPr/>
            <p:nvPr/>
          </p:nvSpPr>
          <p:spPr>
            <a:xfrm>
              <a:off x="1719360" y="4921200"/>
              <a:ext cx="93600" cy="103320"/>
            </a:xfrm>
            <a:custGeom>
              <a:avLst/>
              <a:gdLst/>
              <a:ahLst/>
              <a:rect l="l" t="t" r="r" b="b"/>
              <a:pathLst>
                <a:path w="59" h="65">
                  <a:moveTo>
                    <a:pt x="29" y="6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29" y="65"/>
                  </a:lnTo>
                  <a:lnTo>
                    <a:pt x="29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58960" y="4834080"/>
              <a:ext cx="14040" cy="139680"/>
            </a:xfrm>
            <a:custGeom>
              <a:avLst/>
              <a:gdLst/>
              <a:ahLst/>
              <a:rect l="l" t="t" r="r" b="b"/>
              <a:pathLst>
                <a:path w="9" h="88">
                  <a:moveTo>
                    <a:pt x="4" y="0"/>
                  </a:moveTo>
                  <a:lnTo>
                    <a:pt x="0" y="3"/>
                  </a:lnTo>
                  <a:lnTo>
                    <a:pt x="0" y="88"/>
                  </a:lnTo>
                  <a:lnTo>
                    <a:pt x="9" y="88"/>
                  </a:lnTo>
                  <a:lnTo>
                    <a:pt x="9" y="3"/>
                  </a:lnTo>
                  <a:lnTo>
                    <a:pt x="4" y="7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774800" y="4835520"/>
            <a:ext cx="4784760" cy="1440"/>
          </a:xfrm>
          <a:custGeom>
            <a:avLst/>
            <a:gdLst/>
            <a:ahLst/>
            <a:rect l="l" t="t" r="r" b="b"/>
            <a:pathLst>
              <a:path w="2320" h="7">
                <a:moveTo>
                  <a:pt x="2320" y="3"/>
                </a:moveTo>
                <a:lnTo>
                  <a:pt x="2315" y="0"/>
                </a:lnTo>
                <a:lnTo>
                  <a:pt x="0" y="0"/>
                </a:lnTo>
                <a:lnTo>
                  <a:pt x="0" y="7"/>
                </a:lnTo>
                <a:lnTo>
                  <a:pt x="2315" y="7"/>
                </a:lnTo>
                <a:lnTo>
                  <a:pt x="2311" y="3"/>
                </a:lnTo>
                <a:lnTo>
                  <a:pt x="2320" y="3"/>
                </a:lnTo>
                <a:lnTo>
                  <a:pt x="2320" y="0"/>
                </a:lnTo>
                <a:lnTo>
                  <a:pt x="2315" y="0"/>
                </a:lnTo>
                <a:lnTo>
                  <a:pt x="2320" y="3"/>
                </a:lnTo>
                <a:close/>
              </a:path>
            </a:pathLst>
          </a:custGeom>
          <a:noFill/>
          <a:ln w="144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513480" y="4838760"/>
            <a:ext cx="88920" cy="185760"/>
            <a:chOff x="6513480" y="4838760"/>
            <a:chExt cx="88920" cy="185760"/>
          </a:xfrm>
        </p:grpSpPr>
        <p:sp>
          <p:nvSpPr>
            <p:cNvPr id="137" name=""/>
            <p:cNvSpPr/>
            <p:nvPr/>
          </p:nvSpPr>
          <p:spPr>
            <a:xfrm>
              <a:off x="6553080" y="4838760"/>
              <a:ext cx="14400" cy="1350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4" y="85"/>
                  </a:moveTo>
                  <a:lnTo>
                    <a:pt x="9" y="8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13480" y="492120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29" y="65"/>
                  </a:move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9" y="65"/>
                  </a:lnTo>
                  <a:lnTo>
                    <a:pt x="29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003480" y="4838760"/>
            <a:ext cx="14400" cy="135000"/>
          </a:xfrm>
          <a:custGeom>
            <a:avLst/>
            <a:gdLst/>
            <a:ahLst/>
            <a:rect l="l" t="t" r="r" b="b"/>
            <a:pathLst>
              <a:path w="9" h="85">
                <a:moveTo>
                  <a:pt x="4" y="85"/>
                </a:moveTo>
                <a:lnTo>
                  <a:pt x="9" y="85"/>
                </a:lnTo>
                <a:lnTo>
                  <a:pt x="9" y="0"/>
                </a:lnTo>
                <a:lnTo>
                  <a:pt x="0" y="0"/>
                </a:lnTo>
                <a:lnTo>
                  <a:pt x="0" y="85"/>
                </a:lnTo>
                <a:lnTo>
                  <a:pt x="4" y="8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63880" y="4921200"/>
            <a:ext cx="93600" cy="103320"/>
          </a:xfrm>
          <a:custGeom>
            <a:avLst/>
            <a:gdLst/>
            <a:ahLst/>
            <a:rect l="l" t="t" r="r" b="b"/>
            <a:pathLst>
              <a:path w="59" h="65">
                <a:moveTo>
                  <a:pt x="29" y="65"/>
                </a:moveTo>
                <a:lnTo>
                  <a:pt x="59" y="0"/>
                </a:lnTo>
                <a:lnTo>
                  <a:pt x="59" y="0"/>
                </a:lnTo>
                <a:lnTo>
                  <a:pt x="57" y="0"/>
                </a:lnTo>
                <a:lnTo>
                  <a:pt x="54" y="2"/>
                </a:lnTo>
                <a:lnTo>
                  <a:pt x="52" y="2"/>
                </a:lnTo>
                <a:lnTo>
                  <a:pt x="50" y="2"/>
                </a:lnTo>
                <a:lnTo>
                  <a:pt x="50" y="4"/>
                </a:lnTo>
                <a:lnTo>
                  <a:pt x="47" y="4"/>
                </a:lnTo>
                <a:lnTo>
                  <a:pt x="45" y="4"/>
                </a:lnTo>
                <a:lnTo>
                  <a:pt x="43" y="4"/>
                </a:lnTo>
                <a:lnTo>
                  <a:pt x="41" y="6"/>
                </a:lnTo>
                <a:lnTo>
                  <a:pt x="41" y="6"/>
                </a:lnTo>
                <a:lnTo>
                  <a:pt x="38" y="6"/>
                </a:lnTo>
                <a:lnTo>
                  <a:pt x="36" y="6"/>
                </a:lnTo>
                <a:lnTo>
                  <a:pt x="34" y="6"/>
                </a:lnTo>
                <a:lnTo>
                  <a:pt x="34" y="6"/>
                </a:lnTo>
                <a:lnTo>
                  <a:pt x="32" y="6"/>
                </a:lnTo>
                <a:lnTo>
                  <a:pt x="29" y="6"/>
                </a:lnTo>
                <a:lnTo>
                  <a:pt x="27" y="6"/>
                </a:lnTo>
                <a:lnTo>
                  <a:pt x="25" y="6"/>
                </a:lnTo>
                <a:lnTo>
                  <a:pt x="25" y="6"/>
                </a:lnTo>
                <a:lnTo>
                  <a:pt x="23" y="6"/>
                </a:lnTo>
                <a:lnTo>
                  <a:pt x="20" y="6"/>
                </a:lnTo>
                <a:lnTo>
                  <a:pt x="18" y="6"/>
                </a:lnTo>
                <a:lnTo>
                  <a:pt x="16" y="6"/>
                </a:lnTo>
                <a:lnTo>
                  <a:pt x="16" y="4"/>
                </a:lnTo>
                <a:lnTo>
                  <a:pt x="14" y="4"/>
                </a:lnTo>
                <a:lnTo>
                  <a:pt x="11" y="4"/>
                </a:lnTo>
                <a:lnTo>
                  <a:pt x="9" y="4"/>
                </a:lnTo>
                <a:lnTo>
                  <a:pt x="7" y="2"/>
                </a:lnTo>
                <a:lnTo>
                  <a:pt x="7" y="2"/>
                </a:lnTo>
                <a:lnTo>
                  <a:pt x="5" y="2"/>
                </a:lnTo>
                <a:lnTo>
                  <a:pt x="2" y="0"/>
                </a:lnTo>
                <a:lnTo>
                  <a:pt x="0" y="0"/>
                </a:lnTo>
                <a:lnTo>
                  <a:pt x="29" y="65"/>
                </a:lnTo>
                <a:lnTo>
                  <a:pt x="29" y="6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405400" y="4838760"/>
            <a:ext cx="90360" cy="185760"/>
            <a:chOff x="5405400" y="4838760"/>
            <a:chExt cx="90360" cy="185760"/>
          </a:xfrm>
        </p:grpSpPr>
        <p:sp>
          <p:nvSpPr>
            <p:cNvPr id="142" name=""/>
            <p:cNvSpPr/>
            <p:nvPr/>
          </p:nvSpPr>
          <p:spPr>
            <a:xfrm>
              <a:off x="5445000" y="483876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5" y="85"/>
                  </a:moveTo>
                  <a:lnTo>
                    <a:pt x="7" y="8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5" y="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05400" y="4921200"/>
              <a:ext cx="9036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30" y="65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5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30" y="65"/>
                  </a:lnTo>
                  <a:lnTo>
                    <a:pt x="30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968560" y="4370400"/>
            <a:ext cx="2438640" cy="384120"/>
          </a:xfrm>
          <a:prstGeom prst="rect">
            <a:avLst/>
          </a:prstGeom>
          <a:solidFill>
            <a:srgbClr val="fe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72240" y="4471920"/>
            <a:ext cx="220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ögliche Auswertungsebe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374920" y="4295880"/>
            <a:ext cx="3664080" cy="1440"/>
          </a:xfrm>
          <a:prstGeom prst="line">
            <a:avLst/>
          </a:prstGeom>
          <a:ln w="144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79600" y="4178160"/>
            <a:ext cx="1800" cy="114480"/>
          </a:xfrm>
          <a:prstGeom prst="line">
            <a:avLst/>
          </a:prstGeom>
          <a:ln w="144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35760" y="4184640"/>
            <a:ext cx="1440" cy="114480"/>
          </a:xfrm>
          <a:prstGeom prst="line">
            <a:avLst/>
          </a:prstGeom>
          <a:ln w="144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439960" y="5483160"/>
            <a:ext cx="3240" cy="76320"/>
          </a:xfrm>
          <a:prstGeom prst="line">
            <a:avLst/>
          </a:prstGeom>
          <a:ln w="144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90880" y="5489640"/>
            <a:ext cx="1440" cy="79200"/>
          </a:xfrm>
          <a:prstGeom prst="line">
            <a:avLst/>
          </a:prstGeom>
          <a:ln w="144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flipH="1" flipV="1">
            <a:off x="5105520" y="4191120"/>
            <a:ext cx="76176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333760" y="388584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257440" y="3276720"/>
            <a:ext cx="76212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724280" y="274320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274320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419720" y="43434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895480" y="4190760"/>
            <a:ext cx="762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19520" y="3885840"/>
            <a:ext cx="5331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200400"/>
            <a:ext cx="685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733920"/>
            <a:ext cx="1600200" cy="68580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7339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rbeits-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sundheits-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chu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743200"/>
            <a:ext cx="1600200" cy="68580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971800"/>
            <a:ext cx="122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üh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2133720"/>
            <a:ext cx="1600200" cy="68580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2819520"/>
            <a:ext cx="1600200" cy="68400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3000" y="2971800"/>
            <a:ext cx="122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Arbei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organ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3733920"/>
            <a:ext cx="1600200" cy="68580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38098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rbei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stal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4876920"/>
            <a:ext cx="1600200" cy="68580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50292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ohn 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eis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4648320"/>
            <a:ext cx="1598760" cy="68400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4800600"/>
            <a:ext cx="122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essen-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vertre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4648320"/>
            <a:ext cx="1600200" cy="68580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48006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Unternehmens-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3276720"/>
            <a:ext cx="2133720" cy="114300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2133720"/>
            <a:ext cx="1600200" cy="68580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22860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Unternehmens-kult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685800"/>
            <a:ext cx="6281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ziales Benchmarking </a:t>
            </a:r>
            <a:br>
              <a:rPr sz="2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  Gestaltungsfe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3120" y="3549600"/>
            <a:ext cx="1236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staltungs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3440" y="2232000"/>
            <a:ext cx="106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ersonal-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ntwick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32240" y="685800"/>
            <a:ext cx="6281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ziales Benchmarking </a:t>
            </a:r>
            <a:br>
              <a:rPr sz="2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Ca Leitsätze 1 -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1843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ziale Gestaltung heißt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584440"/>
            <a:ext cx="5639040" cy="24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dlungs- und Entscheidungsspielräu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i der Arb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2001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operationsmöglichkeiten bis hin zur Teamarb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izipation und Unterstützung der Beschäftig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e Kultur der Anerkennung und Wertschätz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40680" y="418788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üh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438280"/>
            <a:ext cx="1752480" cy="53352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124080"/>
            <a:ext cx="1752480" cy="53352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rbeits- organ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3924360"/>
            <a:ext cx="1752480" cy="53352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610160"/>
            <a:ext cx="1752480" cy="53352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24382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rbeits-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gestal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40528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üh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46483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Unternehmens-kult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32240" y="685800"/>
            <a:ext cx="6281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ziales Benchmarking </a:t>
            </a:r>
            <a:br>
              <a:rPr sz="2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Ca Leitsätze 5 -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6880" y="21178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hn und Leis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18432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ziale Gestaltung heißt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486400"/>
            <a:ext cx="1752840" cy="53352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nteressen-vertre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648320"/>
            <a:ext cx="1752840" cy="53316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Unternehmens-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886200"/>
            <a:ext cx="1752840" cy="53352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ersonal-entwick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2514600"/>
            <a:ext cx="586728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arente und leistungsgerecht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lohnu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2001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beit darf nicht krank ma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arbeitung, Weiterbildung un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wicklungsmöglichk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2001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ch die Entwicklung des Unternehmen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chäftigung sich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 gute Arbeit mit und durch die Interessenvertre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2362320"/>
            <a:ext cx="1752840" cy="53316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23623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hn und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is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3048120"/>
            <a:ext cx="1752840" cy="609480"/>
          </a:xfrm>
          <a:prstGeom prst="ellipse">
            <a:avLst/>
          </a:prstGeom>
          <a:solidFill>
            <a:srgbClr val="183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304812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rbeits-/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Gesundheits-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chu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68720" y="5181480"/>
            <a:ext cx="1295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068720" y="4952520"/>
            <a:ext cx="1295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25920" y="41911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25920" y="3200400"/>
            <a:ext cx="8380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25920" y="32004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525920" y="2819520"/>
            <a:ext cx="8380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59040" y="4191120"/>
            <a:ext cx="990360" cy="9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59040" y="4191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859040" y="3200400"/>
            <a:ext cx="99036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7800" y="3825720"/>
            <a:ext cx="1105920" cy="80676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operations-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öglichkeite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is hin zu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amarb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752480"/>
            <a:ext cx="1080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tsatz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11800" y="3048120"/>
            <a:ext cx="1805040" cy="271440"/>
          </a:xfrm>
          <a:prstGeom prst="rect">
            <a:avLst/>
          </a:prstGeom>
          <a:solidFill>
            <a:srgbClr val="183a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11800" y="3381480"/>
            <a:ext cx="1805040" cy="271440"/>
          </a:xfrm>
          <a:prstGeom prst="rect">
            <a:avLst/>
          </a:prstGeom>
          <a:solidFill>
            <a:srgbClr val="183a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93960" y="1736640"/>
            <a:ext cx="14745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tim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ungsgr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421400" y="2709720"/>
            <a:ext cx="1166760" cy="169560"/>
            <a:chOff x="7421400" y="2709720"/>
            <a:chExt cx="1166760" cy="169560"/>
          </a:xfrm>
        </p:grpSpPr>
        <p:sp>
          <p:nvSpPr>
            <p:cNvPr id="218" name=""/>
            <p:cNvSpPr/>
            <p:nvPr/>
          </p:nvSpPr>
          <p:spPr>
            <a:xfrm>
              <a:off x="7421400" y="279468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90680" y="27097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88160" y="27097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1400" y="27097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97400" y="27097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89000" y="27097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269120" y="2438280"/>
            <a:ext cx="2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43800" y="24670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432560" y="3048120"/>
            <a:ext cx="1166400" cy="169560"/>
            <a:chOff x="7432560" y="3048120"/>
            <a:chExt cx="1166400" cy="169560"/>
          </a:xfrm>
        </p:grpSpPr>
        <p:sp>
          <p:nvSpPr>
            <p:cNvPr id="227" name=""/>
            <p:cNvSpPr/>
            <p:nvPr/>
          </p:nvSpPr>
          <p:spPr>
            <a:xfrm>
              <a:off x="7432560" y="3133080"/>
              <a:ext cx="11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01480" y="30481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598960" y="30481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32560" y="30481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08560" y="30481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99800" y="30481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432560" y="3429000"/>
            <a:ext cx="1166400" cy="171000"/>
            <a:chOff x="7432560" y="3429000"/>
            <a:chExt cx="1166400" cy="171000"/>
          </a:xfrm>
        </p:grpSpPr>
        <p:sp>
          <p:nvSpPr>
            <p:cNvPr id="234" name=""/>
            <p:cNvSpPr/>
            <p:nvPr/>
          </p:nvSpPr>
          <p:spPr>
            <a:xfrm>
              <a:off x="7432560" y="3514680"/>
              <a:ext cx="11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01480" y="342900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98960" y="342900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32560" y="342900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08560" y="342900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99800" y="342900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432560" y="4062240"/>
            <a:ext cx="1166400" cy="171360"/>
            <a:chOff x="7432560" y="4062240"/>
            <a:chExt cx="1166400" cy="171360"/>
          </a:xfrm>
        </p:grpSpPr>
        <p:sp>
          <p:nvSpPr>
            <p:cNvPr id="241" name=""/>
            <p:cNvSpPr/>
            <p:nvPr/>
          </p:nvSpPr>
          <p:spPr>
            <a:xfrm>
              <a:off x="7432560" y="4148280"/>
              <a:ext cx="11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01480" y="406224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598960" y="406224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32560" y="406224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08560" y="406224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99800" y="406224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1400" y="4836960"/>
            <a:ext cx="1166760" cy="171360"/>
            <a:chOff x="7421400" y="4836960"/>
            <a:chExt cx="1166760" cy="171360"/>
          </a:xfrm>
        </p:grpSpPr>
        <p:sp>
          <p:nvSpPr>
            <p:cNvPr id="248" name=""/>
            <p:cNvSpPr/>
            <p:nvPr/>
          </p:nvSpPr>
          <p:spPr>
            <a:xfrm>
              <a:off x="7421400" y="492300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90680" y="483696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588160" y="483696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21400" y="483696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97400" y="483696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289000" y="483696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421400" y="5181480"/>
            <a:ext cx="1166760" cy="169560"/>
            <a:chOff x="7421400" y="5181480"/>
            <a:chExt cx="1166760" cy="169560"/>
          </a:xfrm>
        </p:grpSpPr>
        <p:sp>
          <p:nvSpPr>
            <p:cNvPr id="255" name=""/>
            <p:cNvSpPr/>
            <p:nvPr/>
          </p:nvSpPr>
          <p:spPr>
            <a:xfrm>
              <a:off x="7421400" y="526644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90680" y="518148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588160" y="518148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21400" y="518148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97400" y="518148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89000" y="518148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7702560" y="3079800"/>
            <a:ext cx="88920" cy="842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81840" y="3471840"/>
            <a:ext cx="88920" cy="85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61200" y="4881600"/>
            <a:ext cx="90720" cy="85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34440" y="2743200"/>
            <a:ext cx="88560" cy="85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02560" y="4105440"/>
            <a:ext cx="88920" cy="85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408880" y="5222880"/>
            <a:ext cx="88920" cy="85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2240" y="533520"/>
            <a:ext cx="6281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ziales Benchmarking </a:t>
            </a:r>
            <a:br>
              <a:rPr sz="2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s Instrument, am Beispiel Arbeitsorgan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88040" y="259092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2480" y="3825720"/>
            <a:ext cx="1186560" cy="8067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operations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öglichkeit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is hin zu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amarb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50480" y="1752480"/>
            <a:ext cx="1140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rkma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66680" y="2998800"/>
            <a:ext cx="1715400" cy="4417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Gute Kommuni-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kationsmöglichkei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64880" y="3962520"/>
            <a:ext cx="1748880" cy="4417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ste Teamstrukturen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Personenkre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66680" y="4952880"/>
            <a:ext cx="1230840" cy="4417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sprechend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amaufga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11800" y="3048120"/>
            <a:ext cx="1805040" cy="271440"/>
          </a:xfrm>
          <a:prstGeom prst="rect">
            <a:avLst/>
          </a:prstGeom>
          <a:solidFill>
            <a:srgbClr val="183a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11800" y="3381480"/>
            <a:ext cx="1805040" cy="271440"/>
          </a:xfrm>
          <a:prstGeom prst="rect">
            <a:avLst/>
          </a:prstGeom>
          <a:solidFill>
            <a:srgbClr val="183a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7421400" y="2709720"/>
            <a:ext cx="1166760" cy="169560"/>
            <a:chOff x="7421400" y="2709720"/>
            <a:chExt cx="1166760" cy="169560"/>
          </a:xfrm>
        </p:grpSpPr>
        <p:sp>
          <p:nvSpPr>
            <p:cNvPr id="277" name=""/>
            <p:cNvSpPr/>
            <p:nvPr/>
          </p:nvSpPr>
          <p:spPr>
            <a:xfrm>
              <a:off x="7421400" y="279468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90680" y="27097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88160" y="27097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21400" y="27097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997400" y="27097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89000" y="27097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7269120" y="2438280"/>
            <a:ext cx="2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43800" y="24670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7432560" y="3048120"/>
            <a:ext cx="1166400" cy="169560"/>
            <a:chOff x="7432560" y="3048120"/>
            <a:chExt cx="1166400" cy="169560"/>
          </a:xfrm>
        </p:grpSpPr>
        <p:sp>
          <p:nvSpPr>
            <p:cNvPr id="286" name=""/>
            <p:cNvSpPr/>
            <p:nvPr/>
          </p:nvSpPr>
          <p:spPr>
            <a:xfrm>
              <a:off x="7432560" y="3133080"/>
              <a:ext cx="11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01480" y="30481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598960" y="30481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32560" y="30481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8560" y="30481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299800" y="304812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432560" y="3429000"/>
            <a:ext cx="1166400" cy="171000"/>
            <a:chOff x="7432560" y="3429000"/>
            <a:chExt cx="1166400" cy="171000"/>
          </a:xfrm>
        </p:grpSpPr>
        <p:sp>
          <p:nvSpPr>
            <p:cNvPr id="293" name=""/>
            <p:cNvSpPr/>
            <p:nvPr/>
          </p:nvSpPr>
          <p:spPr>
            <a:xfrm>
              <a:off x="7432560" y="3514680"/>
              <a:ext cx="11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01480" y="342900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98960" y="342900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32560" y="342900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08560" y="342900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99800" y="342900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432560" y="4062240"/>
            <a:ext cx="1166400" cy="171360"/>
            <a:chOff x="7432560" y="4062240"/>
            <a:chExt cx="1166400" cy="171360"/>
          </a:xfrm>
        </p:grpSpPr>
        <p:sp>
          <p:nvSpPr>
            <p:cNvPr id="300" name=""/>
            <p:cNvSpPr/>
            <p:nvPr/>
          </p:nvSpPr>
          <p:spPr>
            <a:xfrm>
              <a:off x="7432560" y="4148280"/>
              <a:ext cx="11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01480" y="406224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98960" y="406224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32560" y="406224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08560" y="406224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99800" y="406224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421400" y="4836960"/>
            <a:ext cx="1166760" cy="171360"/>
            <a:chOff x="7421400" y="4836960"/>
            <a:chExt cx="1166760" cy="171360"/>
          </a:xfrm>
        </p:grpSpPr>
        <p:sp>
          <p:nvSpPr>
            <p:cNvPr id="307" name=""/>
            <p:cNvSpPr/>
            <p:nvPr/>
          </p:nvSpPr>
          <p:spPr>
            <a:xfrm>
              <a:off x="7421400" y="492300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90680" y="483696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88160" y="483696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21400" y="483696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97400" y="483696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289000" y="483696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7421400" y="5181480"/>
            <a:ext cx="1166760" cy="169560"/>
            <a:chOff x="7421400" y="5181480"/>
            <a:chExt cx="1166760" cy="169560"/>
          </a:xfrm>
        </p:grpSpPr>
        <p:sp>
          <p:nvSpPr>
            <p:cNvPr id="314" name=""/>
            <p:cNvSpPr/>
            <p:nvPr/>
          </p:nvSpPr>
          <p:spPr>
            <a:xfrm>
              <a:off x="7421400" y="526644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90680" y="518148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88160" y="518148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21400" y="518148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97400" y="518148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289000" y="518148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702560" y="3079800"/>
            <a:ext cx="88920" cy="842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81840" y="3471840"/>
            <a:ext cx="88920" cy="85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161200" y="4881600"/>
            <a:ext cx="90720" cy="85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534440" y="2743200"/>
            <a:ext cx="88560" cy="85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702560" y="4105440"/>
            <a:ext cx="88920" cy="85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408880" y="5222880"/>
            <a:ext cx="88920" cy="85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74720" y="1782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kator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11800" y="2700360"/>
            <a:ext cx="1805040" cy="271440"/>
          </a:xfrm>
          <a:prstGeom prst="rect">
            <a:avLst/>
          </a:prstGeom>
          <a:solidFill>
            <a:srgbClr val="183a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11800" y="2700360"/>
            <a:ext cx="1805040" cy="271440"/>
          </a:xfrm>
          <a:prstGeom prst="rect">
            <a:avLst/>
          </a:prstGeom>
          <a:solidFill>
            <a:srgbClr val="183a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11800" y="4038480"/>
            <a:ext cx="1805040" cy="271440"/>
          </a:xfrm>
          <a:prstGeom prst="rect">
            <a:avLst/>
          </a:prstGeom>
          <a:solidFill>
            <a:srgbClr val="183a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11800" y="4038480"/>
            <a:ext cx="1805040" cy="271440"/>
          </a:xfrm>
          <a:prstGeom prst="rect">
            <a:avLst/>
          </a:prstGeom>
          <a:solidFill>
            <a:srgbClr val="183a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11800" y="4834080"/>
            <a:ext cx="1805040" cy="271440"/>
          </a:xfrm>
          <a:prstGeom prst="rect">
            <a:avLst/>
          </a:prstGeom>
          <a:solidFill>
            <a:srgbClr val="183a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11800" y="4834080"/>
            <a:ext cx="1805040" cy="271440"/>
          </a:xfrm>
          <a:prstGeom prst="rect">
            <a:avLst/>
          </a:prstGeom>
          <a:solidFill>
            <a:srgbClr val="183a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11800" y="5181480"/>
            <a:ext cx="1805040" cy="271440"/>
          </a:xfrm>
          <a:prstGeom prst="rect">
            <a:avLst/>
          </a:prstGeom>
          <a:solidFill>
            <a:srgbClr val="183a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11800" y="5181480"/>
            <a:ext cx="1805040" cy="271440"/>
          </a:xfrm>
          <a:prstGeom prst="rect">
            <a:avLst/>
          </a:prstGeom>
          <a:solidFill>
            <a:srgbClr val="183a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55800" y="274320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ikato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36720" y="306396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ikato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36720" y="336852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ikato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36720" y="405432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ikator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36720" y="487692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ikator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36720" y="519732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ikator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Ampel" descr=""/>
          <p:cNvPicPr/>
          <p:nvPr/>
        </p:nvPicPr>
        <p:blipFill>
          <a:blip r:embed="rId1"/>
          <a:stretch/>
        </p:blipFill>
        <p:spPr>
          <a:xfrm>
            <a:off x="1062000" y="2666880"/>
            <a:ext cx="995400" cy="33530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590200" y="2948040"/>
            <a:ext cx="2679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är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 Mittelwer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58880" y="4098960"/>
            <a:ext cx="3722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ärken mit Einschränk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 Mittelwer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 2,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47120" y="5165640"/>
            <a:ext cx="3365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 Mittelwer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32240" y="533520"/>
            <a:ext cx="6281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ziales Benchmarking </a:t>
            </a:r>
            <a:br>
              <a:rPr sz="2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wertungskriter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2320" y="1905120"/>
            <a:ext cx="647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1889280"/>
            <a:ext cx="4876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 Auswertung zeigt Stärken und Verbesserungspotentiale au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9:37:50Z</dcterms:created>
  <dc:creator>Sigi</dc:creator>
  <dc:description/>
  <dc:language>en-US</dc:language>
  <cp:lastModifiedBy>IRöser</cp:lastModifiedBy>
  <cp:lastPrinted>2004-09-28T08:30:15Z</cp:lastPrinted>
  <dcterms:modified xsi:type="dcterms:W3CDTF">2004-09-29T09:51:02Z</dcterms:modified>
  <cp:revision>224</cp:revision>
  <dc:subject/>
  <dc:title>soCa - Vortrag Dienstleistungstagung</dc:title>
</cp:coreProperties>
</file>