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8380413" cy="6094413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887040" y="742680"/>
            <a:ext cx="510876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D49-91DA-40B8-8F2F-495688674F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85760" y="950760"/>
            <a:ext cx="4713480" cy="3427560"/>
          </a:xfrm>
          <a:prstGeom prst="rect">
            <a:avLst/>
          </a:prstGeom>
          <a:ln w="0">
            <a:noFill/>
          </a:ln>
        </p:spPr>
      </p:sp>
      <p:sp>
        <p:nvSpPr>
          <p:cNvPr id="205" name=""/>
          <p:cNvSpPr/>
          <p:nvPr/>
        </p:nvSpPr>
        <p:spPr>
          <a:xfrm>
            <a:off x="1066680" y="4714920"/>
            <a:ext cx="475452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98800" y="0"/>
            <a:ext cx="2984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98800" y="9408960"/>
            <a:ext cx="2984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9408960"/>
            <a:ext cx="29829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96760" y="749160"/>
            <a:ext cx="5089680" cy="37004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7640" y="4704840"/>
            <a:ext cx="504648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42EE-6937-4437-804D-29925B755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760" y="1440000"/>
            <a:ext cx="76039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760" y="3314880"/>
            <a:ext cx="76039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361A-4813-4D00-903E-AB3F52A29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760" y="1440000"/>
            <a:ext cx="37105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5040" y="1440000"/>
            <a:ext cx="37105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760" y="3314880"/>
            <a:ext cx="37105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25040" y="3314880"/>
            <a:ext cx="37105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2F83-2878-491D-ACA7-BCBE816C5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760" y="1440000"/>
            <a:ext cx="244836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99880" y="1440000"/>
            <a:ext cx="244836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71000" y="1440000"/>
            <a:ext cx="244836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760" y="3314880"/>
            <a:ext cx="244836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99880" y="3314880"/>
            <a:ext cx="244836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71000" y="3314880"/>
            <a:ext cx="244836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8093-1B50-407A-A528-0DA95C3C2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760" y="1440000"/>
            <a:ext cx="760392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3B71-1503-47EF-819B-6264FD4236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760" y="1440000"/>
            <a:ext cx="760392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903A-AE24-4120-A0DA-1B1D758F2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760" y="1440000"/>
            <a:ext cx="371052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25040" y="1440000"/>
            <a:ext cx="371052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CDF3-AAB0-4FEF-B8F4-087E66F4A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A0AE-5E13-4A9D-9022-F46556ADB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221760"/>
            <a:ext cx="7637400" cy="47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AA71-0B6C-4C4A-880C-695374694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760" y="1440000"/>
            <a:ext cx="37105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25040" y="1440000"/>
            <a:ext cx="371052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760" y="3314880"/>
            <a:ext cx="37105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B553-3ACC-4620-A431-5E47408AC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760" y="1440000"/>
            <a:ext cx="371052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25040" y="1440000"/>
            <a:ext cx="37105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25040" y="3314880"/>
            <a:ext cx="37105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3CC7-FFCE-4E50-9FAF-6D724E3B9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760" y="1440000"/>
            <a:ext cx="37105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25040" y="1440000"/>
            <a:ext cx="37105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760" y="3314880"/>
            <a:ext cx="7603920" cy="17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8CED-46D0-4784-B5B1-024654666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7086600" y="152280"/>
          <a:ext cx="1295280" cy="1086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5228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1143000"/>
            <a:ext cx="8381880" cy="7632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53966" dir="135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28760" y="1440000"/>
            <a:ext cx="760392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6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7920" indent="-206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60480" indent="-2062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60480" indent="-2062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60480" indent="-2062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019920" y="55627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683D-60B3-436D-9B22-FA9573AFCD1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0574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artizipation als Ansatz zur gesundheitsgerechten Arbeitsgestaltung im Call Center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27320" y="4267080"/>
            <a:ext cx="586728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ne Rundnagel, TBS H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.9.2004 Kas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63776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beitsmotivation als Produktivitätsfakto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62040" y="1630440"/>
            <a:ext cx="5257800" cy="283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62040" y="1630440"/>
            <a:ext cx="5257800" cy="2835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562040" y="1630440"/>
            <a:ext cx="5257800" cy="2835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562040" y="1630440"/>
            <a:ext cx="5257800" cy="2835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562040" y="1630440"/>
            <a:ext cx="5257800" cy="2835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199080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219320" y="1969920"/>
            <a:ext cx="4948200" cy="2697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1477800" y="1603440"/>
            <a:ext cx="5426280" cy="2887560"/>
          </a:xfrm>
          <a:prstGeom prst="rect">
            <a:avLst/>
          </a:prstGeom>
          <a:ln w="0">
            <a:noFill/>
          </a:ln>
        </p:spPr>
      </p:pic>
      <p:pic>
        <p:nvPicPr>
          <p:cNvPr id="108" name="office3" descr=""/>
          <p:cNvPicPr/>
          <p:nvPr/>
        </p:nvPicPr>
        <p:blipFill>
          <a:blip r:embed="rId8"/>
          <a:stretch/>
        </p:blipFill>
        <p:spPr>
          <a:xfrm>
            <a:off x="0" y="1201680"/>
            <a:ext cx="8229600" cy="467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0845-65B4-434D-83BF-5E67658B32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63776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ohlbefinden und Partizip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58760" y="960480"/>
          <a:ext cx="6264360" cy="41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960480"/>
                    <a:ext cx="6264360" cy="41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80880" y="1238400"/>
          <a:ext cx="6248520" cy="463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38400"/>
                    <a:ext cx="62485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5AED-0F61-4496-9980-FF2672A1C6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76374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rundbedürfnis Partizip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60428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368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tizipation oder Beteilig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t eines der Grundbedürfnisse von Menschen, sie möch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bei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chtbar wahrgenommen und wertgeschätzt 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s Teil der Gemeinschaft anerkannt se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tizipation sorgt fü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ziale 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ufriedenheit durch Wertschätzung und Anerk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esse an der Aufgabe und dem 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beitsmotivation und Wohlbefi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sparung von unnötiger 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meidung von Akzeptanzproblem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EA00-A4A5-4FCF-AD70-DA422F7B4B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63776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satzpunkte für Partizipatio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m Call Center 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990720"/>
            <a:ext cx="777240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73040" indent="-276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rekte Partizipation oder Beteilig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n Beschäftig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i Gestaltung von Arbeitsplatz – Technik – Organis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richtung von Räumen und Arbeitsplätzen: Planungszirk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schaffung Möbel und Headsets: Testpha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stlegung Auswertungen und Steuerung ACD-Anlage – Ausgestaltung im Rahmen einer Betriebsvereinba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elung des Verfahrens der Qualitäts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staltung von Pausenrege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staltung der Einarbeitung und Weiter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hichtplangestaltung, Teamgesteuerte Arbeitszeitrege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kripterstellung in einem Qualitätszirk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sundheitszirkel bei gesundheitlichen Besch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276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lösgrup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AD2C-B0F9-47F4-B655-4380FCDCAB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79360" y="2100240"/>
            <a:ext cx="168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838080"/>
            <a:ext cx="7473960" cy="4970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8880" y="914400"/>
            <a:ext cx="7131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 Rounded MT Bold"/>
              </a:rPr>
              <a:t>Unternehmensleitung  - Mitbestimmung der Interessenvertret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8240" y="1407960"/>
            <a:ext cx="6962400" cy="4146840"/>
            <a:chOff x="768240" y="1407960"/>
            <a:chExt cx="6962400" cy="4146840"/>
          </a:xfrm>
        </p:grpSpPr>
        <p:sp>
          <p:nvSpPr>
            <p:cNvPr id="122" name=""/>
            <p:cNvSpPr/>
            <p:nvPr/>
          </p:nvSpPr>
          <p:spPr>
            <a:xfrm>
              <a:off x="776160" y="1407960"/>
              <a:ext cx="6954480" cy="4146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8240" y="1480320"/>
              <a:ext cx="566064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378080"/>
                  <a:tab algn="l" pos="2066760"/>
                  <a:tab algn="l" pos="2755800"/>
                  <a:tab algn="l" pos="3444840"/>
                  <a:tab algn="l" pos="4133880"/>
                  <a:tab algn="l" pos="4822920"/>
                  <a:tab algn="l" pos="5511960"/>
                  <a:tab algn="l" pos="6200640"/>
                  <a:tab algn="l" pos="6889680"/>
                  <a:tab algn="l" pos="7578720"/>
                  <a:tab algn="l" pos="8267760"/>
                  <a:tab algn="l" pos="8956800"/>
                  <a:tab algn="l" pos="9645480"/>
                  <a:tab algn="l" pos="10334520"/>
                </a:tabLst>
              </a:pPr>
              <a:r>
                <a:rPr b="1" lang="en-US" sz="1700" spc="-1" strike="noStrike">
                  <a:solidFill>
                    <a:srgbClr val="003366"/>
                  </a:solidFill>
                  <a:latin typeface="Arial Rounded MT Bold"/>
                </a:rPr>
                <a:t>Partizipation der betroffenen Beschäftigt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797440" y="1625760"/>
            <a:ext cx="1798920" cy="1422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Rounded MT Bold"/>
              </a:rPr>
              <a:t>Zweck der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Arial Rounded MT Bold"/>
              </a:rPr>
              <a:t>Partiz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Zielfi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oblemlösu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aßnahmenent-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74920" y="2844720"/>
            <a:ext cx="3422520" cy="157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Rounded MT Bold"/>
              </a:rPr>
              <a:t>Gegenstand der Partiz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rbeitsinhalt/-aufga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rbeitsmittel/-pla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rganisations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rbeitsorgan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ersonal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308560" y="3726000"/>
            <a:ext cx="2468160" cy="1809720"/>
            <a:chOff x="5308560" y="3726000"/>
            <a:chExt cx="2468160" cy="1809720"/>
          </a:xfrm>
        </p:grpSpPr>
        <p:sp>
          <p:nvSpPr>
            <p:cNvPr id="127" name=""/>
            <p:cNvSpPr/>
            <p:nvPr/>
          </p:nvSpPr>
          <p:spPr>
            <a:xfrm>
              <a:off x="5308560" y="3726000"/>
              <a:ext cx="2440800" cy="18097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27720" y="5019480"/>
              <a:ext cx="2349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Keine Vorabinformation</a:t>
              </a:r>
              <a:br>
                <a:rPr sz="1400"/>
              </a:b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über Entscheid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87640" y="4208040"/>
              <a:ext cx="18244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Sie treffen autonome</a:t>
              </a:r>
              <a:br>
                <a:rPr sz="1400"/>
              </a:b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ntscheid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41800" y="3800520"/>
              <a:ext cx="1258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andbreite 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rtizip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29" idx="2"/>
              <a:endCxn id="128" idx="0"/>
            </p:cNvCxnSpPr>
            <p:nvPr/>
          </p:nvCxnSpPr>
          <p:spPr>
            <a:xfrm>
              <a:off x="6600600" y="4723920"/>
              <a:ext cx="1800" cy="295560"/>
            </a:xfrm>
            <a:prstGeom prst="straightConnector1">
              <a:avLst/>
            </a:prstGeom>
            <a:ln w="28440">
              <a:solidFill>
                <a:srgbClr val="003366"/>
              </a:solidFill>
              <a:prstDash val="sysDot"/>
              <a:miter/>
            </a:ln>
          </p:spPr>
        </p:cxnSp>
      </p:grpSp>
      <p:sp>
        <p:nvSpPr>
          <p:cNvPr id="132" name=""/>
          <p:cNvSpPr/>
          <p:nvPr/>
        </p:nvSpPr>
        <p:spPr>
          <a:xfrm>
            <a:off x="942120" y="3589200"/>
            <a:ext cx="1565280" cy="1848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Rounded MT Bold"/>
              </a:rPr>
              <a:t>Formen der 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Arial Rounded MT Bold"/>
              </a:rPr>
              <a:t>Partiz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Zirk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ojek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eamgesprä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efragung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orschlagswe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88240" y="1897200"/>
            <a:ext cx="3429360" cy="813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Rounded MT Bold"/>
              </a:rPr>
              <a:t>Voraussetzung der Partiz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etriebliche Rahmenbeding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Qualifik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720" y="152280"/>
            <a:ext cx="357192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tizipation im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39F9-16DE-4075-AD63-FDD716F839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91160" y="1558800"/>
            <a:ext cx="1674720" cy="1760760"/>
          </a:xfrm>
          <a:prstGeom prst="ellipse">
            <a:avLst/>
          </a:prstGeom>
          <a:gradFill rotWithShape="0">
            <a:gsLst>
              <a:gs pos="0">
                <a:srgbClr val="acacd7"/>
              </a:gs>
              <a:gs pos="50000">
                <a:srgbClr val="ccccff"/>
              </a:gs>
              <a:gs pos="100000">
                <a:srgbClr val="acacd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beitsschutz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mpetenz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bststeuerungs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äh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89160" y="1558800"/>
            <a:ext cx="1674720" cy="1760760"/>
          </a:xfrm>
          <a:prstGeom prst="ellipse">
            <a:avLst/>
          </a:prstGeom>
          <a:gradFill rotWithShape="0">
            <a:gsLst>
              <a:gs pos="0">
                <a:srgbClr val="acacd7"/>
              </a:gs>
              <a:gs pos="50000">
                <a:srgbClr val="ccccff"/>
              </a:gs>
              <a:gs pos="100000">
                <a:srgbClr val="acacd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zien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beitsschutz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mfassen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rgeh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zepta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794040"/>
            <a:ext cx="1674720" cy="1760760"/>
          </a:xfrm>
          <a:prstGeom prst="ellipse">
            <a:avLst/>
          </a:prstGeom>
          <a:gradFill rotWithShape="0">
            <a:gsLst>
              <a:gs pos="0">
                <a:srgbClr val="acacd7"/>
              </a:gs>
              <a:gs pos="50000">
                <a:srgbClr val="ccccff"/>
              </a:gs>
              <a:gs pos="100000">
                <a:srgbClr val="acacd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sation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wick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2320" y="3774960"/>
            <a:ext cx="1675080" cy="1758960"/>
          </a:xfrm>
          <a:prstGeom prst="ellipse">
            <a:avLst/>
          </a:prstGeom>
          <a:gradFill rotWithShape="0">
            <a:gsLst>
              <a:gs pos="0">
                <a:srgbClr val="acacd7"/>
              </a:gs>
              <a:gs pos="50000">
                <a:srgbClr val="ccccff"/>
              </a:gs>
              <a:gs pos="100000">
                <a:srgbClr val="acacd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ivation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ikation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dlungs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elraum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2880" y="2825640"/>
            <a:ext cx="2514600" cy="1490760"/>
          </a:xfrm>
          <a:prstGeom prst="line">
            <a:avLst/>
          </a:prstGeom>
          <a:ln w="57240">
            <a:solidFill>
              <a:srgbClr val="00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139920" y="2825280"/>
            <a:ext cx="2579760" cy="1490760"/>
          </a:xfrm>
          <a:prstGeom prst="line">
            <a:avLst/>
          </a:prstGeom>
          <a:ln w="57240">
            <a:solidFill>
              <a:srgbClr val="00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0160" y="679320"/>
            <a:ext cx="1674720" cy="1758960"/>
          </a:xfrm>
          <a:prstGeom prst="ellipse">
            <a:avLst/>
          </a:prstGeom>
          <a:gradFill rotWithShape="0">
            <a:gsLst>
              <a:gs pos="0">
                <a:srgbClr val="acacd7"/>
              </a:gs>
              <a:gs pos="50000">
                <a:srgbClr val="ccccff"/>
              </a:gs>
              <a:gs pos="100000">
                <a:srgbClr val="acacd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undhei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hlbefinden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undheit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wussts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62480" y="2759040"/>
            <a:ext cx="1666800" cy="1647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rtizi-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tion im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beits-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chutz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 flipH="1" flipV="1">
            <a:off x="4266720" y="2437560"/>
            <a:ext cx="21600" cy="361080"/>
          </a:xfrm>
          <a:prstGeom prst="straightConnector1">
            <a:avLst/>
          </a:prstGeom>
          <a:ln w="57240">
            <a:solidFill>
              <a:srgbClr val="00cc66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304920" y="152280"/>
            <a:ext cx="65768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irkung von Partizipation im Arbeits- und Gesundheitsschu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38760" y="3305160"/>
            <a:ext cx="22557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auf das Individu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3680" y="1219320"/>
            <a:ext cx="24494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auf die Organisatio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27E0-9FAC-4791-86F4-5EF19E8D11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estaltung von Arbeitsaufgaben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4640" y="685800"/>
            <a:ext cx="608868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buClr>
                <a:srgbClr val="3333cc"/>
              </a:buClr>
              <a:buFont typeface="Wingdings" charset="2"/>
              <a:buChar char="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dlungsspielrä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buClr>
                <a:srgbClr val="3333cc"/>
              </a:buClr>
              <a:buFont typeface="Wingdings" charset="2"/>
              <a:buChar char="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wechslung – unterschiedliche Anforde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buClr>
                <a:srgbClr val="3333cc"/>
              </a:buClr>
              <a:buFont typeface="Wingdings" charset="2"/>
              <a:buChar char="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nzheitlichkeit – planende und ausführende 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buClr>
                <a:srgbClr val="3333cc"/>
              </a:buClr>
              <a:buFont typeface="Wingdings" charset="2"/>
              <a:buChar char="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wicklungsmöglich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buClr>
                <a:srgbClr val="3333cc"/>
              </a:buClr>
              <a:buFont typeface="Wingdings" charset="2"/>
              <a:buChar char="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ziale Einbindung und Partiz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2286000"/>
            <a:ext cx="2286000" cy="1863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weiterung der Arbeits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schiedene Med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llfillmentaufgab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onomiebera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ank/Software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1905120"/>
            <a:ext cx="2790720" cy="4155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reicherung der Arbeit mit höherwertigen 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kript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DV-Betreuung/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äts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/Auswerten ACD-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arbeitung Patensc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aml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pazitätspla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eiligung an der Auftragspla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286000"/>
            <a:ext cx="2287440" cy="1863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chsel der  Arbeits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trag, Proje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bound – Out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ck Office,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4191120"/>
            <a:ext cx="4724280" cy="1833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oziale Einbindung und Partiz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amarbeit – Aufträge, Entwicklung Skri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arbeitung und Betreuung neuer MitarbeiterIn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ppencoaching zur Qualitätsentwicklung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ungsgruppen, Testgruppen, Zirkel bei Umgestaltung, Erweiterung, neuen Aufgab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B284-8E28-43F7-B062-8FAF7AA3A6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0280" y="1384200"/>
            <a:ext cx="155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17720" y="1028880"/>
            <a:ext cx="1569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41320" y="1150920"/>
            <a:ext cx="477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0360" y="271440"/>
            <a:ext cx="712476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Kooperation und Kommunik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60" y="1447920"/>
            <a:ext cx="3926880" cy="37033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marL="165240" indent="-16524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ooperation im Call Cen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tauschen von Informatione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 Back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ückkopplung Kundenwün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prechen von Leitfäden im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passung Software mit EDV-Fachleut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prache im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ätszirke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etings mit Call Center - L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33720" y="1084320"/>
            <a:ext cx="1030320" cy="1285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örde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08480" y="1409760"/>
            <a:ext cx="157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1219320"/>
            <a:ext cx="2921040" cy="3216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249120" indent="-24912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Soziale Unterstützung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buClr>
                <a:srgbClr val="3333cc"/>
              </a:buClr>
              <a:buSzPct val="110000"/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 KollegIn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buClr>
                <a:srgbClr val="3333cc"/>
              </a:buClr>
              <a:buSzPct val="110000"/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buClr>
                <a:srgbClr val="3333cc"/>
              </a:buClr>
              <a:buSzPct val="110000"/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unikation fachlich, inform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buClr>
                <a:srgbClr val="3333cc"/>
              </a:buClr>
              <a:buSzPct val="110000"/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buClr>
                <a:srgbClr val="3333cc"/>
              </a:buClr>
              <a:buSzPct val="110000"/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genseitige Unterstützu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buClr>
                <a:srgbClr val="3333cc"/>
              </a:buClr>
              <a:buSzPct val="110000"/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Abwechslu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400000">
            <a:off x="3933360" y="3385800"/>
            <a:ext cx="1030320" cy="1287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örde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4495680"/>
            <a:ext cx="2921040" cy="1252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249120" indent="-24912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sundhe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buClr>
                <a:srgbClr val="3333cc"/>
              </a:buClr>
              <a:buSzPct val="110000"/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sourcen zur Bewältigung von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buClr>
                <a:srgbClr val="3333cc"/>
              </a:buClr>
              <a:buSzPct val="110000"/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hlbefi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9120" indent="-24912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0C95-3EE0-4AB6-8C05-289F3EF9C0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24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artizipative Organisations- und Personalentwicklung</a:t>
            </a: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125800"/>
            <a:ext cx="1357200" cy="62676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593640"/>
                <a:tab algn="l" pos="118908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"/>
              </a:rPr>
              <a:t>Zie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559320"/>
            <a:ext cx="1357200" cy="637920"/>
          </a:xfrm>
          <a:prstGeom prst="roundRect">
            <a:avLst>
              <a:gd name="adj" fmla="val 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593640"/>
                <a:tab algn="l" pos="118908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"/>
              </a:rPr>
              <a:t>Inhal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817640" y="2071800"/>
            <a:ext cx="1749600" cy="2652120"/>
            <a:chOff x="1817640" y="2071800"/>
            <a:chExt cx="1749600" cy="2652120"/>
          </a:xfrm>
        </p:grpSpPr>
        <p:sp>
          <p:nvSpPr>
            <p:cNvPr id="167" name=""/>
            <p:cNvSpPr/>
            <p:nvPr/>
          </p:nvSpPr>
          <p:spPr>
            <a:xfrm>
              <a:off x="1817640" y="2071800"/>
              <a:ext cx="1749600" cy="738000"/>
            </a:xfrm>
            <a:prstGeom prst="roundRect">
              <a:avLst>
                <a:gd name="adj" fmla="val 167"/>
              </a:avLst>
            </a:prstGeom>
            <a:solidFill>
              <a:srgbClr val="dddddd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593640"/>
                  <a:tab algn="l" pos="118908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Entwickl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593640"/>
                  <a:tab algn="l" pos="118908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v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593640"/>
                  <a:tab algn="l" pos="118908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ers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99440" y="3031560"/>
              <a:ext cx="1385640" cy="1692360"/>
            </a:xfrm>
            <a:custGeom>
              <a:avLst/>
              <a:gdLst/>
              <a:ahLst/>
              <a:rect l="l" t="t" r="r" b="b"/>
              <a:pathLst>
                <a:path w="21600" h="26380">
                  <a:moveTo>
                    <a:pt x="16" y="0"/>
                  </a:moveTo>
                  <a:arcTo wR="16" hR="16" stAng="16200000" swAng="-5400000"/>
                  <a:lnTo>
                    <a:pt x="0" y="26364"/>
                  </a:lnTo>
                  <a:arcTo wR="16" hR="16" stAng="10800000" swAng="-5400000"/>
                  <a:lnTo>
                    <a:pt x="21584" y="26380"/>
                  </a:lnTo>
                  <a:arcTo wR="16" hR="16" stAng="5400000" swAng="-5400000"/>
                  <a:lnTo>
                    <a:pt x="21600" y="16"/>
                  </a:lnTo>
                  <a:arcTo wR="16" hR="16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593640"/>
                  <a:tab algn="l" pos="118908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Arial"/>
                </a:rPr>
                <a:t>Defizi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593640"/>
                  <a:tab algn="l" pos="118908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Arial"/>
                </a:rPr>
                <a:t>abbau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593640"/>
                  <a:tab algn="l" pos="118908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593640"/>
                  <a:tab algn="l" pos="118908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Arial"/>
                </a:rPr>
                <a:t>Potent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593640"/>
                  <a:tab algn="l" pos="118908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Arial"/>
                </a:rPr>
                <a:t>aufbau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593640"/>
                  <a:tab algn="l" pos="118908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593640"/>
                  <a:tab algn="l" pos="118908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Arial"/>
                </a:rPr>
                <a:t>Perspekt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593640"/>
                  <a:tab algn="l" pos="1189080"/>
                  <a:tab algn="l" pos="1498680"/>
                  <a:tab algn="l" pos="2247840"/>
                  <a:tab algn="l" pos="2997360"/>
                  <a:tab algn="l" pos="3746520"/>
                  <a:tab algn="l" pos="4495680"/>
                  <a:tab algn="l" pos="5245200"/>
                  <a:tab algn="l" pos="5994360"/>
                  <a:tab algn="l" pos="6743880"/>
                  <a:tab algn="l" pos="7493040"/>
                  <a:tab algn="l" pos="8242200"/>
                  <a:tab algn="l" pos="8991720"/>
                  <a:tab algn="l" pos="9740880"/>
                  <a:tab algn="l" pos="1049004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Arial"/>
                </a:rPr>
                <a:t>entwickel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99920" y="1434960"/>
            <a:ext cx="1990080" cy="462960"/>
            <a:chOff x="1699920" y="1434960"/>
            <a:chExt cx="1990080" cy="462960"/>
          </a:xfrm>
        </p:grpSpPr>
        <p:sp>
          <p:nvSpPr>
            <p:cNvPr id="170" name=""/>
            <p:cNvSpPr/>
            <p:nvPr/>
          </p:nvSpPr>
          <p:spPr>
            <a:xfrm>
              <a:off x="1699920" y="1434960"/>
              <a:ext cx="19900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Personalentwicklu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2626200" y="947880"/>
              <a:ext cx="132840" cy="1767240"/>
            </a:xfrm>
            <a:custGeom>
              <a:avLst/>
              <a:gdLst>
                <a:gd name="textAreaLeft" fmla="*/ 84960 w 132840"/>
                <a:gd name="textAreaRight" fmla="*/ 133200 w 132840"/>
                <a:gd name="textAreaTop" fmla="*/ 46080 h 1767240"/>
                <a:gd name="textAreaBottom" fmla="*/ 1721160 h 176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789360" y="2071800"/>
            <a:ext cx="3692160" cy="2647440"/>
            <a:chOff x="3789360" y="2071800"/>
            <a:chExt cx="3692160" cy="2647440"/>
          </a:xfrm>
        </p:grpSpPr>
        <p:grpSp>
          <p:nvGrpSpPr>
            <p:cNvPr id="173" name=""/>
            <p:cNvGrpSpPr/>
            <p:nvPr/>
          </p:nvGrpSpPr>
          <p:grpSpPr>
            <a:xfrm>
              <a:off x="3789360" y="2071800"/>
              <a:ext cx="1747800" cy="2647440"/>
              <a:chOff x="3789360" y="2071800"/>
              <a:chExt cx="1747800" cy="2647440"/>
            </a:xfrm>
          </p:grpSpPr>
          <p:sp>
            <p:nvSpPr>
              <p:cNvPr id="174" name=""/>
              <p:cNvSpPr/>
              <p:nvPr/>
            </p:nvSpPr>
            <p:spPr>
              <a:xfrm>
                <a:off x="3789360" y="2071800"/>
                <a:ext cx="1747800" cy="738360"/>
              </a:xfrm>
              <a:prstGeom prst="roundRect">
                <a:avLst>
                  <a:gd name="adj" fmla="val 167"/>
                </a:avLst>
              </a:prstGeom>
              <a:solidFill>
                <a:srgbClr val="dddddd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Entwickl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v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Arbeitsform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971160" y="3037320"/>
                <a:ext cx="1385280" cy="1681920"/>
              </a:xfrm>
              <a:custGeom>
                <a:avLst/>
                <a:gdLst/>
                <a:ahLst/>
                <a:rect l="l" t="t" r="r" b="b"/>
                <a:pathLst>
                  <a:path w="21600" h="26224">
                    <a:moveTo>
                      <a:pt x="16" y="0"/>
                    </a:moveTo>
                    <a:arcTo wR="16" hR="16" stAng="16200000" swAng="-5400000"/>
                    <a:lnTo>
                      <a:pt x="0" y="26208"/>
                    </a:lnTo>
                    <a:arcTo wR="16" hR="16" stAng="10800000" swAng="-5400000"/>
                    <a:lnTo>
                      <a:pt x="21584" y="26224"/>
                    </a:lnTo>
                    <a:arcTo wR="16" hR="16" stAng="5400000" swAng="-5400000"/>
                    <a:lnTo>
                      <a:pt x="21600" y="16"/>
                    </a:lnTo>
                    <a:arcTo wR="16" hR="16" stAng="0" swAng="-5400000"/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</a:rPr>
                  <a:t>Team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</a:rPr>
                  <a:t>entwickl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</a:rPr>
                  <a:t>Projektarbei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</a:rPr>
                  <a:t>kooperativ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</a:rPr>
                  <a:t>Arbei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32640" y="2071800"/>
              <a:ext cx="1748880" cy="2647440"/>
              <a:chOff x="5732640" y="2071800"/>
              <a:chExt cx="1748880" cy="2647440"/>
            </a:xfrm>
          </p:grpSpPr>
          <p:sp>
            <p:nvSpPr>
              <p:cNvPr id="177" name=""/>
              <p:cNvSpPr/>
              <p:nvPr/>
            </p:nvSpPr>
            <p:spPr>
              <a:xfrm>
                <a:off x="5732640" y="2071800"/>
                <a:ext cx="1748880" cy="738360"/>
              </a:xfrm>
              <a:prstGeom prst="roundRect">
                <a:avLst>
                  <a:gd name="adj" fmla="val 167"/>
                </a:avLst>
              </a:prstGeom>
              <a:solidFill>
                <a:srgbClr val="dddddd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Entwickl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Organis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14440" y="3037320"/>
                <a:ext cx="1384920" cy="1681920"/>
              </a:xfrm>
              <a:custGeom>
                <a:avLst/>
                <a:gdLst/>
                <a:ahLst/>
                <a:rect l="l" t="t" r="r" b="b"/>
                <a:pathLst>
                  <a:path w="21600" h="26231">
                    <a:moveTo>
                      <a:pt x="16" y="0"/>
                    </a:moveTo>
                    <a:arcTo wR="16" hR="16" stAng="16200000" swAng="-5400000"/>
                    <a:lnTo>
                      <a:pt x="0" y="26215"/>
                    </a:lnTo>
                    <a:arcTo wR="16" hR="16" stAng="10800000" swAng="-5400000"/>
                    <a:lnTo>
                      <a:pt x="21584" y="26231"/>
                    </a:lnTo>
                    <a:arcTo wR="16" hR="16" stAng="5400000" swAng="-5400000"/>
                    <a:lnTo>
                      <a:pt x="21600" y="16"/>
                    </a:lnTo>
                    <a:arcTo wR="16" hR="16" stAng="0" swAng="-5400000"/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</a:rPr>
                  <a:t>Führungs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</a:rPr>
                  <a:t>syst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</a:rPr>
                  <a:t>Kultur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</a:rPr>
                  <a:t>entwickl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593640"/>
                    <a:tab algn="l" pos="1189080"/>
                    <a:tab algn="l" pos="1498680"/>
                    <a:tab algn="l" pos="2247840"/>
                    <a:tab algn="l" pos="2997360"/>
                    <a:tab algn="l" pos="3746520"/>
                    <a:tab algn="l" pos="4495680"/>
                    <a:tab algn="l" pos="5245200"/>
                    <a:tab algn="l" pos="5994360"/>
                    <a:tab algn="l" pos="6743880"/>
                    <a:tab algn="l" pos="7493040"/>
                    <a:tab algn="l" pos="8242200"/>
                    <a:tab algn="l" pos="8991720"/>
                    <a:tab algn="l" pos="9740880"/>
                    <a:tab algn="l" pos="1049004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</a:rPr>
                  <a:t>Kunden-orientier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4389480" y="1432080"/>
            <a:ext cx="2492280" cy="480240"/>
            <a:chOff x="4389480" y="1432080"/>
            <a:chExt cx="2492280" cy="480240"/>
          </a:xfrm>
        </p:grpSpPr>
        <p:sp>
          <p:nvSpPr>
            <p:cNvPr id="180" name=""/>
            <p:cNvSpPr/>
            <p:nvPr/>
          </p:nvSpPr>
          <p:spPr>
            <a:xfrm>
              <a:off x="4429440" y="1432080"/>
              <a:ext cx="24354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Organisationsentwicklu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5569200" y="599760"/>
              <a:ext cx="132840" cy="2492280"/>
            </a:xfrm>
            <a:custGeom>
              <a:avLst/>
              <a:gdLst>
                <a:gd name="textAreaLeft" fmla="*/ 84960 w 132840"/>
                <a:gd name="textAreaRight" fmla="*/ 133200 w 132840"/>
                <a:gd name="textAreaTop" fmla="*/ 64800 h 2492280"/>
                <a:gd name="textAreaBottom" fmla="*/ 2427480 h 24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820520" y="1219320"/>
            <a:ext cx="4884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Beide Konzepte werden in ein Gesamtkonzept integr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3320" y="4800600"/>
            <a:ext cx="7601400" cy="1053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Ziel ist die lernende 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Das Engagement und das Lernpotential wird auf allen Ebenen erschlo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Das Wissen wird durch lebenslanges Lernen erweit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Die Fähigkeit, sich als Organisation auf Veränderungen einzustellen, wird gestär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07E0-940D-4005-BB08-69B79F7F35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alifikationsanforderunge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m Call Cente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81280" y="1371240"/>
            <a:ext cx="447048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lIns="0" rIns="0" tIns="0" bIns="0" anchor="t">
            <a:normAutofit fontScale="91000"/>
          </a:bodyPr>
          <a:p>
            <a:pPr lvl="2" marL="609480" indent="-178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mmunikations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178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nfliktlösefäh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178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ch- und Sprach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178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sches und  Prozessverständn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80920" y="4190760"/>
            <a:ext cx="4419720" cy="1523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lIns="0" rIns="0" tIns="0" bIns="0" anchor="t">
            <a:normAutofit/>
          </a:bodyPr>
          <a:p>
            <a:pPr lvl="2" marL="669960" indent="-19692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8088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nzentrationsfäh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9692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8088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verän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9692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8088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rnbereitschaft, Lernfäh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9692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8088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fäh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9692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8088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astbarkeit, Stressbewält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371600"/>
            <a:ext cx="2791080" cy="1070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gemeine Qualifik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938320"/>
            <a:ext cx="4419720" cy="781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4730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ch- und Fachkompet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0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ssen über Kunden – Lieferante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und interne Proz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895480"/>
            <a:ext cx="2791080" cy="1070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ziel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4419720"/>
            <a:ext cx="2791080" cy="85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e Kompeten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A666-DAE1-4429-A7E7-2BE3343B32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esundheitsgerechte Arbeitsgestaltung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eiß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60428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7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iel: Wohlbefinden, Gesundheit und Sicher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160" indent="-272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gewogene körperliche und psychische Belastun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160" indent="-272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Über- und Unterbeanspruchungen auf Dauer und damit Vermeidung von gesundheitlichen Beeinträchtigungen und arbeitsbedingten Erkrankun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160" indent="-272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ähigkeit, die persönliche Belastbarkeit einzuschätzen und sich gesundheitsgerecht zu ver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160" indent="-272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inuierliche Verbesserung des Arbeits- und Gesundheitsschutz im Prozess der laufenden Gestaltung von Arbeitsplätzen, Qualifikation, Organisation, Techni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160" indent="-272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eitsgestaltung nach Humankriterien. Arbeit so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heitlich, vielfältig und abwechselnd und kooperativ sein und selbstbestimmte Spielräume sowie  Lern- und Entwicklungschancen beinhal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6B04-FEA0-400B-8321-1E1EF89BF9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95280"/>
            <a:ext cx="3830400" cy="464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520" bIns="38520" anchor="t">
            <a:noAutofit/>
          </a:bodyPr>
          <a:p>
            <a:pPr marL="246240" indent="-246240">
              <a:lnSpc>
                <a:spcPct val="100000"/>
              </a:lnSpc>
              <a:spcAft>
                <a:spcPts val="737"/>
              </a:spcAft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700" spc="-1" strike="noStrike">
                <a:solidFill>
                  <a:srgbClr val="333333"/>
                </a:solidFill>
                <a:latin typeface="Arial"/>
              </a:rPr>
              <a:t>Auskunft, Bestellannah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Gestaltungsmerk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Arbeitsaufgaben: </a:t>
            </a:r>
            <a:br>
              <a:rPr sz="1600"/>
            </a:b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ausschnitthaft, kurztaktig, kaum Handlungsspielrä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Mögliche Faktoren für mehr Arbeitszufriedenh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Ganzheitlichkeit und Abwechslung durch Rotation in interne 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Partizipation bei Arbeitsplatz-gestaltung schafft Anerkennung und Abwechsl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Entwicklungschancen in Projekten zu Coach, Trainer, Teamleitu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Entlohnung, Sozialleis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Transparente Firmenpolit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1295280"/>
            <a:ext cx="3830760" cy="464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520" bIns="38520" anchor="t">
            <a:noAutofit/>
          </a:bodyPr>
          <a:p>
            <a:pPr marL="246240" indent="-246240">
              <a:lnSpc>
                <a:spcPct val="100000"/>
              </a:lnSpc>
              <a:spcAft>
                <a:spcPts val="737"/>
              </a:spcAft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"/>
              </a:rPr>
              <a:t>Hotline, Beratung, Verkau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Gestaltungsmerk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Arbeitsaufgaben: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komplex, ganzheitlich, Handlungsspielräume bei der zentralen Tät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Mögliche Faktoren für mehr Arbeitszufriedenh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ehr Handlungsspielräume durch Kooperation mit Fachabteilu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artizipation schafft Anerkenn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ohe Qualität der Arbeitsmittel/E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Weiterbildungsbud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ntlohnung, Sozialleis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Aft>
                <a:spcPts val="700"/>
              </a:spcAft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ransparente Firmenpolit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8560" y="5554800"/>
            <a:ext cx="1746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0360" y="217440"/>
            <a:ext cx="7737480" cy="79704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ctr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Motivatoren für Arbeitszufriedenheit </a:t>
            </a:r>
            <a:br>
              <a:rPr sz="24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im Call Cente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F4E6-5E90-4F9F-93CA-5DE3137B5E3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200" y="202680"/>
            <a:ext cx="712476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gleich von traditionellem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d partizipativem Führungssti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295280"/>
            <a:ext cx="3352680" cy="4572000"/>
          </a:xfrm>
          <a:prstGeom prst="flowChart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Traditioneller Führungss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Autoritär, geprägt durch Vorgaben und Kontrolle, Machtkämpf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Personorientiert, geprägt durch den "Macher" und dem Suchen von  Schuldig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Bewertung und Kritik bezieht sich auf die Person und das Se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Konkurrenz untereinander spielt</a:t>
            </a:r>
            <a:br>
              <a:rPr sz="1500"/>
            </a:b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eine große Rol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Traditionelles Führungsver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Lenken durch autoritäre Vorgab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Motivation nur durch finanziellen</a:t>
            </a:r>
            <a:br>
              <a:rPr sz="1500"/>
            </a:b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Anrei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Starke Kontroll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48160" y="1295280"/>
            <a:ext cx="3552840" cy="4648320"/>
          </a:xfrm>
          <a:prstGeom prst="flowChart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Partizipativer Führungss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Kooperativ, geprägt durch Abspra-</a:t>
            </a:r>
            <a:br>
              <a:rPr sz="1500"/>
            </a:b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 chen, Vereinbarungen, gemein-</a:t>
            </a:r>
            <a:br>
              <a:rPr sz="1500"/>
            </a:b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 schaftlich Lösungen su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Aufgabenorientiert, zielbezogen,</a:t>
            </a:r>
            <a:br>
              <a:rPr sz="1500"/>
            </a:b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 problemlösungsorientie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Bewertung und Kritik bezieht sich auf Inhalte, Abläufe und Verhalt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Partizipatives Führungsver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Management durch Integ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Gemeinsame Zielfestleg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Motivation durch Anerkennung und</a:t>
            </a:r>
            <a:br>
              <a:rPr sz="1500"/>
            </a:b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 Selbstverwirklich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Selbstkontrolle durch</a:t>
            </a:r>
            <a:br>
              <a:rPr sz="1500"/>
            </a:b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 Zielidentifik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500" spc="-1" strike="noStrike">
                <a:solidFill>
                  <a:srgbClr val="333333"/>
                </a:solidFill>
                <a:latin typeface="Arial"/>
              </a:rPr>
              <a:t>Führungskraft unterstütze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68D3-E932-4429-A03C-90FC4E5EDF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1447920"/>
            <a:ext cx="7162920" cy="4198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2200" y="135000"/>
            <a:ext cx="8059680" cy="74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Gestaltungsbereiche Arbeits- und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Gesundheitsschutz im Call Center</a:t>
            </a:r>
            <a:r>
              <a:rPr b="1" lang="en-US" sz="26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68580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beitsplatz/Arbeitsumge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achverständigung, Lärm, Bildschirmarbe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beitsorgan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operation, Kommunikation, DV-gesteuerte Arb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ätigkeitsanfor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otionsarbeit, Tätigkeitswechsel, Handlungsspielra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ziales Klima, soziale Unterstützungsfor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it für Coaching und Gruppengespräche, Zirkel, Planungs- und Testgrup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fizierung für das Kundengesprä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istungsanforderungen, Stressbewältigung, Konflikt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beitszeiten und Pau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V als Arbeits-, Informations- und Kontroll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beitsintensität und Leistungsme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fizierung für gesundheitsgerechtes arbeiten (Unterweis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55AC-EB6D-4E21-A53F-F373F729BD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1447920"/>
            <a:ext cx="7156440" cy="3860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2476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Rounded MT Bold"/>
              </a:rPr>
              <a:t>Excellente Rahmenbedingungen für eine partizipative Organisation Arbeitsschutz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1247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izipativer Arbeitsschutz ist im Unternehmen bei der verantwortliche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Leitungseben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ank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chutz is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ins Managementsystem integri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ientierte Organisatio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flachen Hierarchien ermöglicht dezentrale Verantwortung für 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twendige Betriebsvereinbarung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geschlo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hei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Inhalte, Ausmaß und Form der Partizipation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ransparenz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n Entschei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ents sind als ExpertInnen in eigener Sach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an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eignete Method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sichergestellt (Workshops, Meeting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Führungsebenen beziehe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ArbeitsschutzexpertInn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 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orientiertes, gesundheitsförderliche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Führungskonzep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rtizipativer Führungsstil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amarb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kontinuierlicher Verbesserungsprozess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sichergestel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6CE9-A26C-400B-AE77-B383ABD553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8200" y="3333600"/>
            <a:ext cx="21456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27400" y="3664080"/>
            <a:ext cx="2292480" cy="1815840"/>
          </a:xfrm>
          <a:prstGeom prst="ellipse">
            <a:avLst/>
          </a:prstGeom>
          <a:gradFill rotWithShape="0">
            <a:gsLst>
              <a:gs pos="0">
                <a:srgbClr val="cacaca"/>
              </a:gs>
              <a:gs pos="50000">
                <a:srgbClr val="dddddd"/>
              </a:gs>
              <a:gs pos="100000">
                <a:srgbClr val="cacac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samm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nig Ko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istungsmes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Arbeitsz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42960" y="3664080"/>
            <a:ext cx="2292480" cy="1815840"/>
          </a:xfrm>
          <a:prstGeom prst="ellipse">
            <a:avLst/>
          </a:prstGeom>
          <a:gradFill rotWithShape="0">
            <a:gsLst>
              <a:gs pos="0">
                <a:srgbClr val="cacaca"/>
              </a:gs>
              <a:gs pos="50000">
                <a:srgbClr val="dddddd"/>
              </a:gs>
              <a:gs pos="100000">
                <a:srgbClr val="cacac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undlich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otionale 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hliche Anford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54720" y="1835280"/>
            <a:ext cx="2292120" cy="1815840"/>
          </a:xfrm>
          <a:prstGeom prst="ellipse">
            <a:avLst/>
          </a:prstGeom>
          <a:gradFill rotWithShape="0">
            <a:gsLst>
              <a:gs pos="0">
                <a:srgbClr val="cacaca"/>
              </a:gs>
              <a:gs pos="50000">
                <a:srgbClr val="dddddd"/>
              </a:gs>
              <a:gs pos="100000">
                <a:srgbClr val="cacac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Bindung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Informa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onsver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40120" y="1835280"/>
            <a:ext cx="2292120" cy="1815840"/>
          </a:xfrm>
          <a:prstGeom prst="ellipse">
            <a:avLst/>
          </a:prstGeom>
          <a:gradFill rotWithShape="0">
            <a:gsLst>
              <a:gs pos="0">
                <a:srgbClr val="cacaca"/>
              </a:gs>
              <a:gs pos="50000">
                <a:srgbClr val="dddddd"/>
              </a:gs>
              <a:gs pos="100000">
                <a:srgbClr val="cacac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nig Bewe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he Konzen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5520" y="1766880"/>
            <a:ext cx="2292120" cy="1817640"/>
          </a:xfrm>
          <a:prstGeom prst="ellipse">
            <a:avLst/>
          </a:prstGeom>
          <a:gradFill rotWithShape="0">
            <a:gsLst>
              <a:gs pos="0">
                <a:srgbClr val="cacaca"/>
              </a:gs>
              <a:gs pos="50000">
                <a:srgbClr val="dddddd"/>
              </a:gs>
              <a:gs pos="100000">
                <a:srgbClr val="cacac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ören und Spre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ä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uerspre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560" y="380880"/>
            <a:ext cx="553320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ypische Belastungen im Call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43A3-4D40-44A7-B23D-417BA8ACFC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7040" y="271080"/>
            <a:ext cx="74311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ue Erkenntnisse zu Stress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 Call Center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0200" y="4334040"/>
            <a:ext cx="7093080" cy="17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1040" indent="0">
              <a:spcBef>
                <a:spcPts val="4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Center im Vergleich zur Sachbearbeitung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74760"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öherer Zeitd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74760"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he Konzentrationserfordern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74760"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ingere Handlungs- und Entscheidungsspielrä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74760"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höhte körperliche Anzeichen von Stress, häufiger psychosomatische Besch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3240" y="1287360"/>
            <a:ext cx="155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371600"/>
            <a:ext cx="354492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höhte psychische Belastungen und Stress b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33336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zahl von Calls pro Stu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33336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n In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33336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Jüngeren ohne Training und Erfah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33336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utbound - Verkaufsakti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33336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zeitkräf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33336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ängerer Tätigkeit im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1295280"/>
            <a:ext cx="3962160" cy="29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ringere psychische Belastungen und Stress bzw. bessere Bewältigung b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746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fizierten In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746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schtätig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746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Älteren mit Erfah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746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 trainierter kommunikativ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746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eten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746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uen, Abiturienten, Teamlei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746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unschtät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746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76BE-D41C-4DC0-8C06-E42A4775BA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269040" cy="798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ctr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ögliche Folgen von Lärmbelastung im Call Center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676520"/>
            <a:ext cx="2192400" cy="322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sszu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3809880"/>
            <a:ext cx="2192400" cy="566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rschnelle Ermü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514600"/>
            <a:ext cx="2190960" cy="566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wang zu lautem Spre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1371600"/>
            <a:ext cx="2192040" cy="809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mindertes Hörverständnis, Informationsfe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4737240"/>
            <a:ext cx="2361960" cy="566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zeitstressfolgen Erkrank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2514600"/>
            <a:ext cx="2361960" cy="809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Überbeanspruchung der Stimme, Stimmerkrank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2514600"/>
            <a:ext cx="2192400" cy="809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ingere Leistungsfähigkeit und Aufmerksam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3657600"/>
            <a:ext cx="2286000" cy="809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räuschempfind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chkeit, Tinnitus, Hörstur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676520"/>
            <a:ext cx="2192400" cy="566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höhte Konzen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5257800"/>
            <a:ext cx="4343400" cy="380880"/>
          </a:xfrm>
          <a:prstGeom prst="rightArrow">
            <a:avLst>
              <a:gd name="adj1" fmla="val 50000"/>
              <a:gd name="adj2" fmla="val 285090"/>
            </a:avLst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992C-8C65-4F79-9DE3-1A93214344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304920"/>
            <a:ext cx="68626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timme und ihre Wirkung im Call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720" y="1370160"/>
            <a:ext cx="3283200" cy="129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im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rück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urch Tonhöhe, Stimmklang und Stimmvolumen nonverbal Stimmungen, Emotionen etc. a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0720" y="3943440"/>
            <a:ext cx="3356280" cy="80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i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tress oder Ang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klingt di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me anders u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k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f den Kommunikationspartn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1370160"/>
            <a:ext cx="2919240" cy="129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bewusste Stimmführu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richtige Atmung und aktive Körperhaltung fördern  die Verständi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0720" y="2655720"/>
            <a:ext cx="3283200" cy="105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e stimmliche Leistung wird durch di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kustik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 Raumes beeinflusst. Das Hören steuert das Sprechen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3193920"/>
            <a:ext cx="2919240" cy="129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elbstgestaltete Gesprächsführu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wirkt eine natürliche Stimmführung und entspanntes Sprech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0720" y="5027760"/>
            <a:ext cx="3356280" cy="80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Verspannun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irken ungünstig auf die Stimme und überlas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809960"/>
            <a:ext cx="2919240" cy="105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Stimme braucht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euchtigke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trockene  Luft und wenig Trinken ist ungünsti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E925-75D5-49C3-A7A6-9928CFEE6A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415280" cy="3286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ctr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immbelastungen und Gesundheitsgefahren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3463920" cy="4456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txBody>
          <a:bodyPr lIns="78120" rIns="78120" tIns="38520" bIns="38520" anchor="t">
            <a:normAutofit/>
          </a:bodyPr>
          <a:p>
            <a:pPr marL="48276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olgen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Überbeanspruchung der Stim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rschnelle Ermüdung der Stimmmuskulatu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günstige Belastung der Kehlkopfmuskulatur und Stimmbä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cht auskurierte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ische Erkrankungen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immstörungen, Arbeitsunfäh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447920"/>
            <a:ext cx="3803400" cy="445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520" bIns="38520" anchor="t">
            <a:noAutofit/>
          </a:bodyPr>
          <a:p>
            <a:pPr marL="417600" indent="-41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ngünstig 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usenloses Spre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utes Spre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günstiges Sprechen und Atm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pannungungen in Nacken und Schulter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mstörungen und -erkrankunge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Heiserkeit, matte Stimme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Stimmermüdung, Räusper-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zwang, Erkäl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ss und Unzufriedenh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ockene Luft, heisses oder kaltes Klima und wenig Trink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2703-CE60-45C2-A8CA-6F1A393E53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221760"/>
            <a:ext cx="76374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sychische Belastungen</a:t>
            </a:r>
            <a:br>
              <a:rPr sz="24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im Callcente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676520"/>
            <a:ext cx="2235240" cy="1218960"/>
          </a:xfrm>
          <a:prstGeom prst="hexagon">
            <a:avLst>
              <a:gd name="adj" fmla="val 45843"/>
              <a:gd name="vf" fmla="val 115470"/>
            </a:avLst>
          </a:prstGeom>
          <a:solidFill>
            <a:srgbClr val="ffff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arbeiterIn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 Call Cen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371600"/>
            <a:ext cx="2743200" cy="4572000"/>
          </a:xfrm>
          <a:prstGeom prst="rightArrowCallout">
            <a:avLst>
              <a:gd name="adj1" fmla="val 26283"/>
              <a:gd name="adj2" fmla="val 29668"/>
              <a:gd name="adj3" fmla="val 12384"/>
              <a:gd name="adj4" fmla="val 82120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143000"/>
            <a:ext cx="2209680" cy="35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196920" indent="-196920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Belas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Zeitdru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Emotionale Arbe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Arbeitskomplexitä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Lärm, Klima, Beleucht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Lange Ca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hohes Kontrollnivea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Kurze Tak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Einfache Aufgabe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olierte Arbe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chichtarbei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257800" y="1371600"/>
            <a:ext cx="2743200" cy="4495680"/>
          </a:xfrm>
          <a:prstGeom prst="rightArrowCallout">
            <a:avLst>
              <a:gd name="adj1" fmla="val 22779"/>
              <a:gd name="adj2" fmla="val 33536"/>
              <a:gd name="adj3" fmla="val 15222"/>
              <a:gd name="adj4" fmla="val 78528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447920"/>
            <a:ext cx="213372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196920" indent="-196920">
              <a:lnSpc>
                <a:spcPct val="100000"/>
              </a:lnSpc>
              <a:tabLst>
                <a:tab algn="l" pos="0"/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Gesundheits-förderliche Ressourc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Handlungs-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pielräu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Entscheidungs-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pielräu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Zeitspielräu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Teamarbe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nhaltliche Abwechsl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utes Betriebskli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oziale Rücken-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eckung/Kollegen und  Vorgesetz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Qualifizier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Excellente Ergonomi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tabLst>
                <a:tab algn="l" pos="0"/>
                <a:tab algn="l" pos="19692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3886200"/>
            <a:ext cx="3047760" cy="2057400"/>
          </a:xfrm>
          <a:prstGeom prst="upArrowCallout">
            <a:avLst>
              <a:gd name="adj1" fmla="val 25556"/>
              <a:gd name="adj2" fmla="val 38255"/>
              <a:gd name="adj3" fmla="val 18366"/>
              <a:gd name="adj4" fmla="val 56992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4495680"/>
            <a:ext cx="312444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196920" indent="-196920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</a:rPr>
              <a:t>Belastunge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örung des Arbeitsablauf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idersprüchliche Anweis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ngelhafte Qualifizier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utoritäre Führ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3B13-A5AE-4D19-9739-D4096B0359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14560" y="4064040"/>
            <a:ext cx="55872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2000" y="4064040"/>
            <a:ext cx="55872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7240" y="1447920"/>
            <a:ext cx="3213360" cy="2457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findlichkeitsstö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reislaufstörunge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egetative Dystoni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izmagen, Verdauungsstöru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nzentrationsstörun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pfschmerzen, Migrä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rankheitsanfälligke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geschlagenheit, Erschöpfu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rvositä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hlafstör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1320" y="417600"/>
            <a:ext cx="37414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Folgen von Dauer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78400" y="1447920"/>
            <a:ext cx="3087720" cy="2457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rkrank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erz-Kreislauf-Erkranku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erzinfark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gen-Darmkrankheit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sychische Krankheit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pression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temwegserkrank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chterkrank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ronische Immunschwä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ngeschränkte Leistungsfähigk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240" y="4470480"/>
            <a:ext cx="6956640" cy="1179000"/>
          </a:xfrm>
          <a:prstGeom prst="rect">
            <a:avLst/>
          </a:prstGeom>
          <a:gradFill rotWithShape="0">
            <a:gsLst>
              <a:gs pos="0">
                <a:srgbClr val="fefeda"/>
              </a:gs>
              <a:gs pos="50000">
                <a:srgbClr val="ffff99"/>
              </a:gs>
              <a:gs pos="100000">
                <a:srgbClr val="fefed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gen für das Unterneh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kende Motivation und Identif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lechtes Betriebsk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igender Krankenst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he Fluk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01BE-8D49-42A8-A206-3941A8CC83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1:45:52Z</dcterms:created>
  <dc:creator>RR</dc:creator>
  <dc:description/>
  <dc:language>en-US</dc:language>
  <cp:lastModifiedBy>RR</cp:lastModifiedBy>
  <cp:lastPrinted>2002-10-06T13:58:24Z</cp:lastPrinted>
  <dcterms:modified xsi:type="dcterms:W3CDTF">2004-09-27T11:04:18Z</dcterms:modified>
  <cp:revision>8</cp:revision>
  <dc:subject>Stress und psychische Belastungen</dc:subject>
  <dc:title>Partizipation als Ansatz zur gesundheitsgerechten Arbeitsgestaltung im Call Center</dc:title>
</cp:coreProperties>
</file>