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DCE-1017-4687-975D-9F437953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254-37AB-4B04-B099-3BD20EAE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288-0F67-4C58-B886-7E5BEA5B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99D-7176-4CCA-8DF0-0869E305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F0B-37A6-4720-9598-93209350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556-D7DB-4AB1-8EC2-75E39839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D44-03F8-4524-ACC7-4CD9DD63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7CB-5A82-44B7-811E-36515953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90B-BE42-4E6E-B8F3-D4C515C2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A4B-7C10-4F41-B4DE-215A2E88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BBD-285D-421C-89A5-9F29492B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5B8-3D53-4E89-B2BB-DFBF168A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87B7-78B2-463C-8873-23D196CE9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924680" y="304920"/>
          <a:ext cx="86688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304920"/>
                    <a:ext cx="86688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91968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taenzer2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2098800" cy="361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304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OP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990720"/>
            <a:ext cx="259056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r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stres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mmunika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s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kompliz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z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tivieren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4100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„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Kleine Bewegungspause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4800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924680" y="304920"/>
          <a:ext cx="86688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304920"/>
                    <a:ext cx="86688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taenzer2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846000" cy="145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2057400"/>
            <a:ext cx="74674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e kennen alle die Situatio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 Seminar beginnen die ersten, zu gähnen und nach frisc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Luft zu japse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m Kongress fühlen sich die Köpfe voll und schwer an, nich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geht mehr hinei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in der Firma gucken die Kollegen aus dem Fester, rauche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werden gereizt, klagen über Nackenschmerze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562720"/>
            <a:ext cx="84582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.. jetzt ist Zeit für e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leine Bewegungspause!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924680" y="304920"/>
          <a:ext cx="787680" cy="14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304920"/>
                    <a:ext cx="78768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09480" y="198900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ine kurze Bewegungspause sei es von 1-2 Minuten am Arbeitsplatz oder für zehn Minuten in der Pause anstelle der Zigarette und dem Kaffe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3141720"/>
            <a:ext cx="426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ktiviert den Kreisla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ässt den Stress abgl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urchblutet die Muskulatur ne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öffnet den Kop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aenzer2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846000" cy="1457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5013360"/>
            <a:ext cx="708660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... danach gehen die Aktivitäten viel leichter weiter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htung!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Fünf mal 10 Minuten in der Woche ist fast sovie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wie eine Gymnastik/Sportstu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1773360"/>
            <a:ext cx="8138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Bewegungspause gemeinsam durchgeführt, heißt auch eine kommunikative Begegnung schaffen, die die soziale Atmosphäre entspann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 der Gestaltung der Bewegungspause ist jedoch zu beach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aenzer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4600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7924680" y="304920"/>
          <a:ext cx="787680" cy="14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4680" y="304920"/>
                    <a:ext cx="78768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533520" y="32004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omplizierte Organis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7339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ar begrenzter Rahmen und zeitliche Festle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2670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omplizierte Übungen, die von jedem nach vollzogen we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kön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10552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bau der Hemmungen, sich voreinander zu bew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56386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nfache Anregungen für die Teilnehmer/-innen für den Allta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aenzer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4600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7924680" y="304920"/>
          <a:ext cx="787680" cy="14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4680" y="304920"/>
                    <a:ext cx="78768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09480" y="2060640"/>
            <a:ext cx="792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aben Sie Lust, die „Kleine Bewegungspause“ einzuführen, bieten wir Ihnen Hilfestellung bei der Gestaltung in einem 3-stündigen work-shop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14172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„Kleine Bewegungspause“ – Bedeutung und Verwendung im All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3716280"/>
            <a:ext cx="7467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Übungen und Programmzusammenstel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Kreislaufanregung und K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Rücken- und Funktionsgymnast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Körperwahrnehm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57340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pps zum Aufbau und zur Durchführung von Program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aenzer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4600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924680" y="304920"/>
          <a:ext cx="787680" cy="14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4680" y="304920"/>
                    <a:ext cx="78768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taenzer2" descr=""/>
          <p:cNvPicPr/>
          <p:nvPr/>
        </p:nvPicPr>
        <p:blipFill>
          <a:blip r:embed="rId4"/>
          <a:stretch/>
        </p:blipFill>
        <p:spPr>
          <a:xfrm>
            <a:off x="3348000" y="1700280"/>
            <a:ext cx="2432160" cy="4189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278136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itere Informationen erhalten Sie b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429000"/>
            <a:ext cx="85341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Landessportbund Bre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„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Kleine Bewegungspause“ - JETZ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elefon 0421/79287-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Renate Jon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der  www.lsb-breme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4:09:15Z</dcterms:created>
  <dc:creator>hirsch</dc:creator>
  <dc:description/>
  <dc:language>en-US</dc:language>
  <cp:lastModifiedBy>Jonas</cp:lastModifiedBy>
  <dcterms:modified xsi:type="dcterms:W3CDTF">2003-11-11T10:28:24Z</dcterms:modified>
  <cp:revision>9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35539890</vt:r8>
  </property>
  <property fmtid="{D5CDD505-2E9C-101B-9397-08002B2CF9AE}" pid="3" name="_AuthorEmail">
    <vt:lpwstr>jonas@lsb-bremen.de</vt:lpwstr>
  </property>
  <property fmtid="{D5CDD505-2E9C-101B-9397-08002B2CF9AE}" pid="4" name="_AuthorEmailDisplayName">
    <vt:lpwstr>Renate Jonas</vt:lpwstr>
  </property>
  <property fmtid="{D5CDD505-2E9C-101B-9397-08002B2CF9AE}" pid="5" name="_EmailSubject">
    <vt:lpwstr>Bewegungspause</vt:lpwstr>
  </property>
</Properties>
</file>